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PROJCTOR.WAV" ContentType="audio/x-wav"/>
  <Override PartName="/ppt/media/CHIMES.WAV" ContentType="audio/x-wav"/>
  <Override PartName="/ppt/media/image1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8963-6FE5-49E8-887C-E7D128728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CA00-F9A2-45D2-80D8-3325DA218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7DE2-8B64-4595-AD8F-46F6239CB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A9CF-AF1C-4181-9BD4-A52F17B60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C947-B8F0-44F8-BF77-9C326FF04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545C-4E7A-4ACD-9803-FD0744EE1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2764-EB26-4B26-8F9A-5A91F6C7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76E8-BC71-4A3F-9DA8-13E0F18C1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09AEE-1C18-4562-B1A0-FE496F776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577C-8B0C-4E28-9D84-FE531753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A20E-C241-48CD-A20B-E3EA524B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FE4F9-F027-4CB8-B38B-43E1C791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99003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990033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990033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33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33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0033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0033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C7AAB-E79F-4AC6-8105-943EC3BB010D}" type="slidenum">
              <a:rPr b="0" lang="en-US" sz="1400" spc="-1" strike="noStrike">
                <a:solidFill>
                  <a:srgbClr val="990033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-1752480" y="-228600"/>
            <a:ext cx="12280680" cy="800280"/>
          </a:xfrm>
          <a:custGeom>
            <a:avLst/>
            <a:gdLst/>
            <a:ahLst/>
            <a:rect l="l" t="t" r="r" b="b"/>
            <a:pathLst>
              <a:path w="7568" h="416">
                <a:moveTo>
                  <a:pt x="984" y="152"/>
                </a:moveTo>
                <a:cubicBezTo>
                  <a:pt x="1316" y="244"/>
                  <a:pt x="1648" y="336"/>
                  <a:pt x="1800" y="344"/>
                </a:cubicBezTo>
                <a:cubicBezTo>
                  <a:pt x="1952" y="352"/>
                  <a:pt x="1792" y="192"/>
                  <a:pt x="1896" y="200"/>
                </a:cubicBezTo>
                <a:cubicBezTo>
                  <a:pt x="2000" y="208"/>
                  <a:pt x="2216" y="400"/>
                  <a:pt x="2424" y="392"/>
                </a:cubicBezTo>
                <a:cubicBezTo>
                  <a:pt x="2632" y="384"/>
                  <a:pt x="3016" y="152"/>
                  <a:pt x="3144" y="152"/>
                </a:cubicBezTo>
                <a:cubicBezTo>
                  <a:pt x="3272" y="152"/>
                  <a:pt x="3072" y="384"/>
                  <a:pt x="3192" y="392"/>
                </a:cubicBezTo>
                <a:cubicBezTo>
                  <a:pt x="3312" y="400"/>
                  <a:pt x="3584" y="200"/>
                  <a:pt x="3864" y="200"/>
                </a:cubicBezTo>
                <a:cubicBezTo>
                  <a:pt x="4144" y="200"/>
                  <a:pt x="4728" y="392"/>
                  <a:pt x="4872" y="392"/>
                </a:cubicBezTo>
                <a:cubicBezTo>
                  <a:pt x="5016" y="392"/>
                  <a:pt x="4608" y="200"/>
                  <a:pt x="4728" y="200"/>
                </a:cubicBezTo>
                <a:cubicBezTo>
                  <a:pt x="4848" y="200"/>
                  <a:pt x="5344" y="392"/>
                  <a:pt x="5592" y="392"/>
                </a:cubicBezTo>
                <a:cubicBezTo>
                  <a:pt x="5840" y="392"/>
                  <a:pt x="6072" y="200"/>
                  <a:pt x="6216" y="200"/>
                </a:cubicBezTo>
                <a:cubicBezTo>
                  <a:pt x="6360" y="200"/>
                  <a:pt x="6384" y="416"/>
                  <a:pt x="6456" y="392"/>
                </a:cubicBezTo>
                <a:cubicBezTo>
                  <a:pt x="6528" y="368"/>
                  <a:pt x="7568" y="112"/>
                  <a:pt x="6648" y="56"/>
                </a:cubicBezTo>
                <a:cubicBezTo>
                  <a:pt x="5728" y="0"/>
                  <a:pt x="1872" y="40"/>
                  <a:pt x="936" y="56"/>
                </a:cubicBezTo>
                <a:cubicBezTo>
                  <a:pt x="0" y="72"/>
                  <a:pt x="1016" y="136"/>
                  <a:pt x="1032" y="152"/>
                </a:cubicBezTo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-1752480" y="6171840"/>
            <a:ext cx="12280680" cy="990720"/>
          </a:xfrm>
          <a:custGeom>
            <a:avLst/>
            <a:gdLst/>
            <a:ahLst/>
            <a:rect l="l" t="t" r="r" b="b"/>
            <a:pathLst>
              <a:path w="7568" h="416">
                <a:moveTo>
                  <a:pt x="984" y="152"/>
                </a:moveTo>
                <a:cubicBezTo>
                  <a:pt x="1316" y="244"/>
                  <a:pt x="1648" y="336"/>
                  <a:pt x="1800" y="344"/>
                </a:cubicBezTo>
                <a:cubicBezTo>
                  <a:pt x="1952" y="352"/>
                  <a:pt x="1792" y="192"/>
                  <a:pt x="1896" y="200"/>
                </a:cubicBezTo>
                <a:cubicBezTo>
                  <a:pt x="2000" y="208"/>
                  <a:pt x="2216" y="400"/>
                  <a:pt x="2424" y="392"/>
                </a:cubicBezTo>
                <a:cubicBezTo>
                  <a:pt x="2632" y="384"/>
                  <a:pt x="3016" y="152"/>
                  <a:pt x="3144" y="152"/>
                </a:cubicBezTo>
                <a:cubicBezTo>
                  <a:pt x="3272" y="152"/>
                  <a:pt x="3072" y="384"/>
                  <a:pt x="3192" y="392"/>
                </a:cubicBezTo>
                <a:cubicBezTo>
                  <a:pt x="3312" y="400"/>
                  <a:pt x="3584" y="200"/>
                  <a:pt x="3864" y="200"/>
                </a:cubicBezTo>
                <a:cubicBezTo>
                  <a:pt x="4144" y="200"/>
                  <a:pt x="4728" y="392"/>
                  <a:pt x="4872" y="392"/>
                </a:cubicBezTo>
                <a:cubicBezTo>
                  <a:pt x="5016" y="392"/>
                  <a:pt x="4608" y="200"/>
                  <a:pt x="4728" y="200"/>
                </a:cubicBezTo>
                <a:cubicBezTo>
                  <a:pt x="4848" y="200"/>
                  <a:pt x="5344" y="392"/>
                  <a:pt x="5592" y="392"/>
                </a:cubicBezTo>
                <a:cubicBezTo>
                  <a:pt x="5840" y="392"/>
                  <a:pt x="6072" y="200"/>
                  <a:pt x="6216" y="200"/>
                </a:cubicBezTo>
                <a:cubicBezTo>
                  <a:pt x="6360" y="200"/>
                  <a:pt x="6384" y="416"/>
                  <a:pt x="6456" y="392"/>
                </a:cubicBezTo>
                <a:cubicBezTo>
                  <a:pt x="6528" y="368"/>
                  <a:pt x="7568" y="112"/>
                  <a:pt x="6648" y="56"/>
                </a:cubicBezTo>
                <a:cubicBezTo>
                  <a:pt x="5728" y="0"/>
                  <a:pt x="1872" y="40"/>
                  <a:pt x="936" y="56"/>
                </a:cubicBezTo>
                <a:cubicBezTo>
                  <a:pt x="0" y="72"/>
                  <a:pt x="1016" y="136"/>
                  <a:pt x="1032" y="152"/>
                </a:cubicBezTo>
              </a:path>
            </a:pathLst>
          </a:cu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88680"/>
            <a:ext cx="7772400" cy="16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0033"/>
                </a:solidFill>
                <a:latin typeface="Wide Latin"/>
              </a:rPr>
              <a:t>Classifying Quadrilaterals</a:t>
            </a:r>
            <a:endParaRPr b="0" lang="en-US" sz="48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24382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at the Computer Drill</a:t>
            </a: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1012680" y="3421080"/>
            <a:ext cx="7116840" cy="2236320"/>
            <a:chOff x="1012680" y="3421080"/>
            <a:chExt cx="7116840" cy="2236320"/>
          </a:xfrm>
        </p:grpSpPr>
        <p:sp>
          <p:nvSpPr>
            <p:cNvPr id="46" name=""/>
            <p:cNvSpPr/>
            <p:nvPr/>
          </p:nvSpPr>
          <p:spPr>
            <a:xfrm>
              <a:off x="1012680" y="3421080"/>
              <a:ext cx="1762200" cy="813240"/>
            </a:xfrm>
            <a:prstGeom prst="rect">
              <a:avLst/>
            </a:prstGeom>
            <a:solidFill>
              <a:srgbClr val="990033">
                <a:alpha val="50000"/>
              </a:srgbClr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452400" y="4234320"/>
              <a:ext cx="880920" cy="880920"/>
            </a:xfrm>
            <a:prstGeom prst="rect">
              <a:avLst/>
            </a:prstGeom>
            <a:solidFill>
              <a:srgbClr val="990033">
                <a:alpha val="50000"/>
              </a:srgbClr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214960" y="3421080"/>
              <a:ext cx="2100960" cy="745200"/>
            </a:xfrm>
            <a:custGeom>
              <a:avLst/>
              <a:gdLst>
                <a:gd name="textAreaLeft" fmla="*/ 461880 w 2100960"/>
                <a:gd name="textAreaRight" fmla="*/ 1639080 w 2100960"/>
                <a:gd name="textAreaTop" fmla="*/ 163800 h 745200"/>
                <a:gd name="textAreaBottom" fmla="*/ 581400 h 745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0033">
                <a:alpha val="50000"/>
              </a:srgbClr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790760" y="3624120"/>
              <a:ext cx="338760" cy="1897920"/>
            </a:xfrm>
            <a:prstGeom prst="diamond">
              <a:avLst/>
            </a:prstGeom>
            <a:solidFill>
              <a:srgbClr val="990033">
                <a:alpha val="50000"/>
              </a:srgbClr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605120" y="4505400"/>
              <a:ext cx="1626480" cy="1083960"/>
            </a:xfrm>
            <a:custGeom>
              <a:avLst/>
              <a:gdLst/>
              <a:ahLst/>
              <a:rect l="l" t="t" r="r" b="b"/>
              <a:pathLst>
                <a:path w="1152" h="768">
                  <a:moveTo>
                    <a:pt x="528" y="0"/>
                  </a:moveTo>
                  <a:lnTo>
                    <a:pt x="0" y="768"/>
                  </a:lnTo>
                  <a:lnTo>
                    <a:pt x="1152" y="624"/>
                  </a:lnTo>
                  <a:lnTo>
                    <a:pt x="432" y="432"/>
                  </a:lnTo>
                  <a:lnTo>
                    <a:pt x="528" y="0"/>
                  </a:lnTo>
                  <a:close/>
                </a:path>
              </a:pathLst>
            </a:custGeom>
            <a:solidFill>
              <a:srgbClr val="990033">
                <a:alpha val="50000"/>
              </a:srgbClr>
            </a:solidFill>
            <a:ln w="5724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351440" y="4505400"/>
              <a:ext cx="1761840" cy="1016640"/>
            </a:xfrm>
            <a:custGeom>
              <a:avLst/>
              <a:gdLst/>
              <a:ahLst/>
              <a:rect l="l" t="t" r="r" b="b"/>
              <a:pathLst>
                <a:path w="1248" h="720">
                  <a:moveTo>
                    <a:pt x="288" y="0"/>
                  </a:moveTo>
                  <a:lnTo>
                    <a:pt x="0" y="384"/>
                  </a:lnTo>
                  <a:lnTo>
                    <a:pt x="0" y="720"/>
                  </a:lnTo>
                  <a:lnTo>
                    <a:pt x="1248" y="67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990033">
                <a:alpha val="50000"/>
              </a:srgbClr>
            </a:solidFill>
            <a:ln w="5724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638400" y="4640760"/>
              <a:ext cx="609840" cy="1016640"/>
            </a:xfrm>
            <a:custGeom>
              <a:avLst/>
              <a:gdLst/>
              <a:ahLst/>
              <a:rect l="l" t="t" r="r" b="b"/>
              <a:pathLst>
                <a:path w="432" h="720">
                  <a:moveTo>
                    <a:pt x="0" y="0"/>
                  </a:moveTo>
                  <a:lnTo>
                    <a:pt x="0" y="720"/>
                  </a:lnTo>
                  <a:lnTo>
                    <a:pt x="432" y="720"/>
                  </a:lnTo>
                  <a:lnTo>
                    <a:pt x="432" y="28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0033">
                <a:alpha val="50000"/>
              </a:srgbClr>
            </a:solidFill>
            <a:ln w="5724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8685360" y="5702400"/>
            <a:ext cx="411120" cy="422280"/>
          </a:xfrm>
          <a:custGeom>
            <a:avLst/>
            <a:gdLst>
              <a:gd name="textAreaLeft" fmla="*/ 26640 w 411120"/>
              <a:gd name="textAreaRight" fmla="*/ 384480 w 411120"/>
              <a:gd name="textAreaTop" fmla="*/ 26640 h 422280"/>
              <a:gd name="textAreaBottom" fmla="*/ 395640 h 422280"/>
            </a:gdLst>
            <a:ahLst/>
            <a:rect l="textAreaLeft" t="textAreaTop" r="textAreaRight" b="textAreaBottom"/>
            <a:pathLst>
              <a:path w="21600" h="22186">
                <a:moveTo>
                  <a:pt x="0" y="0"/>
                </a:moveTo>
                <a:lnTo>
                  <a:pt x="21600" y="0"/>
                </a:lnTo>
                <a:lnTo>
                  <a:pt x="21600" y="22186"/>
                </a:lnTo>
                <a:lnTo>
                  <a:pt x="0" y="22186"/>
                </a:lnTo>
                <a:close/>
              </a:path>
              <a:path fill="lightenLess" w="21600" h="22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86">
                <a:moveTo>
                  <a:pt x="21600" y="0"/>
                </a:moveTo>
                <a:lnTo>
                  <a:pt x="21600" y="22186"/>
                </a:lnTo>
                <a:lnTo>
                  <a:pt x="20200" y="20786"/>
                </a:lnTo>
                <a:lnTo>
                  <a:pt x="20200" y="1400"/>
                </a:lnTo>
                <a:close/>
              </a:path>
              <a:path fill="darkenLess" w="21600" h="22186">
                <a:moveTo>
                  <a:pt x="21600" y="22186"/>
                </a:moveTo>
                <a:lnTo>
                  <a:pt x="0" y="22186"/>
                </a:lnTo>
                <a:lnTo>
                  <a:pt x="1400" y="20786"/>
                </a:lnTo>
                <a:lnTo>
                  <a:pt x="20200" y="20786"/>
                </a:lnTo>
                <a:close/>
              </a:path>
              <a:path fill="lighten" w="21600" h="22186">
                <a:moveTo>
                  <a:pt x="0" y="22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86"/>
                </a:lnTo>
                <a:close/>
              </a:path>
              <a:path fill="darken" w="21600" h="22186">
                <a:moveTo>
                  <a:pt x="3794" y="4086"/>
                </a:moveTo>
                <a:lnTo>
                  <a:pt x="17806" y="11093"/>
                </a:lnTo>
                <a:lnTo>
                  <a:pt x="3794" y="18099"/>
                </a:lnTo>
                <a:close/>
              </a:path>
            </a:pathLst>
          </a:custGeom>
          <a:solidFill>
            <a:srgbClr val="ff8db3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14320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Wide Latin"/>
              </a:rPr>
              <a:t>Quadrilater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752480" y="2619360"/>
            <a:ext cx="5639040" cy="3254400"/>
          </a:xfrm>
          <a:custGeom>
            <a:avLst/>
            <a:gdLst/>
            <a:ahLst/>
            <a:rect l="l" t="t" r="r" b="b"/>
            <a:pathLst>
              <a:path w="1248" h="720">
                <a:moveTo>
                  <a:pt x="288" y="0"/>
                </a:moveTo>
                <a:lnTo>
                  <a:pt x="0" y="384"/>
                </a:lnTo>
                <a:lnTo>
                  <a:pt x="0" y="720"/>
                </a:lnTo>
                <a:lnTo>
                  <a:pt x="1248" y="672"/>
                </a:lnTo>
                <a:lnTo>
                  <a:pt x="288" y="0"/>
                </a:lnTo>
                <a:close/>
              </a:path>
            </a:pathLst>
          </a:custGeom>
          <a:solidFill>
            <a:srgbClr val="990033">
              <a:alpha val="50000"/>
            </a:srgbClr>
          </a:solidFill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dissolve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1257480" y="2819520"/>
            <a:ext cx="6629400" cy="1935000"/>
            <a:chOff x="1257480" y="2819520"/>
            <a:chExt cx="6629400" cy="1935000"/>
          </a:xfrm>
        </p:grpSpPr>
        <p:grpSp>
          <p:nvGrpSpPr>
            <p:cNvPr id="124" name=""/>
            <p:cNvGrpSpPr/>
            <p:nvPr/>
          </p:nvGrpSpPr>
          <p:grpSpPr>
            <a:xfrm>
              <a:off x="1257480" y="2819520"/>
              <a:ext cx="6629400" cy="1935000"/>
              <a:chOff x="1257480" y="2819520"/>
              <a:chExt cx="6629400" cy="193500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1257480" y="2819520"/>
                <a:ext cx="6629400" cy="1935000"/>
                <a:chOff x="1257480" y="2819520"/>
                <a:chExt cx="6629400" cy="193500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1257480" y="2819520"/>
                  <a:ext cx="228600" cy="169920"/>
                </a:xfrm>
                <a:prstGeom prst="rect">
                  <a:avLst/>
                </a:prstGeom>
                <a:noFill/>
                <a:ln w="572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7" name=""/>
                <p:cNvGrpSpPr/>
                <p:nvPr/>
              </p:nvGrpSpPr>
              <p:grpSpPr>
                <a:xfrm>
                  <a:off x="1257480" y="2819520"/>
                  <a:ext cx="6629400" cy="1935000"/>
                  <a:chOff x="1257480" y="2819520"/>
                  <a:chExt cx="6629400" cy="1935000"/>
                </a:xfrm>
              </p:grpSpPr>
              <p:sp>
                <p:nvSpPr>
                  <p:cNvPr id="128" name=""/>
                  <p:cNvSpPr/>
                  <p:nvPr/>
                </p:nvSpPr>
                <p:spPr>
                  <a:xfrm>
                    <a:off x="1257480" y="2819520"/>
                    <a:ext cx="6629400" cy="1935000"/>
                  </a:xfrm>
                  <a:prstGeom prst="rect">
                    <a:avLst/>
                  </a:prstGeom>
                  <a:solidFill>
                    <a:srgbClr val="990033">
                      <a:alpha val="50000"/>
                    </a:srgbClr>
                  </a:solidFill>
                  <a:ln w="57240">
                    <a:solidFill>
                      <a:srgbClr val="99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" name=""/>
                  <p:cNvSpPr/>
                  <p:nvPr/>
                </p:nvSpPr>
                <p:spPr>
                  <a:xfrm>
                    <a:off x="7658280" y="2819520"/>
                    <a:ext cx="228600" cy="169920"/>
                  </a:xfrm>
                  <a:prstGeom prst="rect">
                    <a:avLst/>
                  </a:prstGeom>
                  <a:noFill/>
                  <a:ln w="57240">
                    <a:solidFill>
                      <a:srgbClr val="99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30" name=""/>
              <p:cNvSpPr/>
              <p:nvPr/>
            </p:nvSpPr>
            <p:spPr>
              <a:xfrm>
                <a:off x="1257480" y="4584240"/>
                <a:ext cx="228600" cy="169920"/>
              </a:xfrm>
              <a:prstGeom prst="rect">
                <a:avLst/>
              </a:prstGeom>
              <a:noFill/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658280" y="4584240"/>
              <a:ext cx="228600" cy="169920"/>
            </a:xfrm>
            <a:prstGeom prst="rect">
              <a:avLst/>
            </a:prstGeom>
            <a:noFill/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dissolve/>
    <p:sndAc>
      <p:stSnd>
        <p:snd r:embed="rId1" name="PROJCTOR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876240" y="143208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Wide Latin"/>
              </a:rPr>
              <a:t>Rectang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257480" y="2819520"/>
            <a:ext cx="6629400" cy="1935000"/>
            <a:chOff x="1257480" y="2819520"/>
            <a:chExt cx="6629400" cy="1935000"/>
          </a:xfrm>
        </p:grpSpPr>
        <p:grpSp>
          <p:nvGrpSpPr>
            <p:cNvPr id="135" name=""/>
            <p:cNvGrpSpPr/>
            <p:nvPr/>
          </p:nvGrpSpPr>
          <p:grpSpPr>
            <a:xfrm>
              <a:off x="1257480" y="2819520"/>
              <a:ext cx="6629400" cy="1935000"/>
              <a:chOff x="1257480" y="2819520"/>
              <a:chExt cx="6629400" cy="1935000"/>
            </a:xfrm>
          </p:grpSpPr>
          <p:grpSp>
            <p:nvGrpSpPr>
              <p:cNvPr id="136" name=""/>
              <p:cNvGrpSpPr/>
              <p:nvPr/>
            </p:nvGrpSpPr>
            <p:grpSpPr>
              <a:xfrm>
                <a:off x="1257480" y="2819520"/>
                <a:ext cx="6629400" cy="1935000"/>
                <a:chOff x="1257480" y="2819520"/>
                <a:chExt cx="6629400" cy="193500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1257480" y="2819520"/>
                  <a:ext cx="228600" cy="169920"/>
                </a:xfrm>
                <a:prstGeom prst="rect">
                  <a:avLst/>
                </a:prstGeom>
                <a:noFill/>
                <a:ln w="572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38" name=""/>
                <p:cNvGrpSpPr/>
                <p:nvPr/>
              </p:nvGrpSpPr>
              <p:grpSpPr>
                <a:xfrm>
                  <a:off x="1257480" y="2819520"/>
                  <a:ext cx="6629400" cy="1935000"/>
                  <a:chOff x="1257480" y="2819520"/>
                  <a:chExt cx="6629400" cy="193500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>
                    <a:off x="1257480" y="2819520"/>
                    <a:ext cx="6629400" cy="1935000"/>
                  </a:xfrm>
                  <a:prstGeom prst="rect">
                    <a:avLst/>
                  </a:prstGeom>
                  <a:solidFill>
                    <a:srgbClr val="990033">
                      <a:alpha val="50000"/>
                    </a:srgbClr>
                  </a:solidFill>
                  <a:ln w="57240">
                    <a:solidFill>
                      <a:srgbClr val="99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7658280" y="2819520"/>
                    <a:ext cx="228600" cy="169920"/>
                  </a:xfrm>
                  <a:prstGeom prst="rect">
                    <a:avLst/>
                  </a:prstGeom>
                  <a:noFill/>
                  <a:ln w="57240">
                    <a:solidFill>
                      <a:srgbClr val="99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1" name=""/>
              <p:cNvSpPr/>
              <p:nvPr/>
            </p:nvSpPr>
            <p:spPr>
              <a:xfrm>
                <a:off x="1257480" y="4584240"/>
                <a:ext cx="228600" cy="169920"/>
              </a:xfrm>
              <a:prstGeom prst="rect">
                <a:avLst/>
              </a:prstGeom>
              <a:noFill/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7658280" y="4584240"/>
              <a:ext cx="228600" cy="169920"/>
            </a:xfrm>
            <a:prstGeom prst="rect">
              <a:avLst/>
            </a:prstGeom>
            <a:noFill/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384960" y="4933800"/>
            <a:ext cx="27590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This quadrilateral is al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a paralle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dissolve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585720" y="2954160"/>
            <a:ext cx="8096400" cy="1768680"/>
          </a:xfrm>
          <a:prstGeom prst="parallelogram">
            <a:avLst>
              <a:gd name="adj" fmla="val -104110"/>
            </a:avLst>
          </a:prstGeom>
          <a:solidFill>
            <a:srgbClr val="990033">
              <a:alpha val="50000"/>
            </a:srgbClr>
          </a:solidFill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7083360" y="2813040"/>
            <a:ext cx="574200" cy="268200"/>
            <a:chOff x="7083360" y="2813040"/>
            <a:chExt cx="574200" cy="268200"/>
          </a:xfrm>
        </p:grpSpPr>
        <p:sp>
          <p:nvSpPr>
            <p:cNvPr id="147" name=""/>
            <p:cNvSpPr/>
            <p:nvPr/>
          </p:nvSpPr>
          <p:spPr>
            <a:xfrm rot="5400000">
              <a:off x="7065000" y="2831040"/>
              <a:ext cx="268200" cy="231840"/>
            </a:xfrm>
            <a:prstGeom prst="triangle">
              <a:avLst>
                <a:gd name="adj" fmla="val 50000"/>
              </a:avLst>
            </a:prstGeom>
            <a:solidFill>
              <a:srgbClr val="990033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5400000">
              <a:off x="7407720" y="2831400"/>
              <a:ext cx="268200" cy="231480"/>
            </a:xfrm>
            <a:prstGeom prst="triangle">
              <a:avLst>
                <a:gd name="adj" fmla="val 50000"/>
              </a:avLst>
            </a:prstGeom>
            <a:solidFill>
              <a:srgbClr val="990033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1603800" y="4572000"/>
            <a:ext cx="574200" cy="268200"/>
            <a:chOff x="1603800" y="4572000"/>
            <a:chExt cx="574200" cy="268200"/>
          </a:xfrm>
        </p:grpSpPr>
        <p:sp>
          <p:nvSpPr>
            <p:cNvPr id="150" name=""/>
            <p:cNvSpPr/>
            <p:nvPr/>
          </p:nvSpPr>
          <p:spPr>
            <a:xfrm flipH="1" rot="16200000">
              <a:off x="1927800" y="4590000"/>
              <a:ext cx="268200" cy="231840"/>
            </a:xfrm>
            <a:prstGeom prst="triangle">
              <a:avLst>
                <a:gd name="adj" fmla="val 50000"/>
              </a:avLst>
            </a:prstGeom>
            <a:solidFill>
              <a:srgbClr val="990033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rot="16200000">
              <a:off x="1585080" y="4590360"/>
              <a:ext cx="268200" cy="231480"/>
            </a:xfrm>
            <a:prstGeom prst="triangle">
              <a:avLst>
                <a:gd name="adj" fmla="val 50000"/>
              </a:avLst>
            </a:prstGeom>
            <a:solidFill>
              <a:srgbClr val="990033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" name=""/>
          <p:cNvSpPr/>
          <p:nvPr/>
        </p:nvSpPr>
        <p:spPr>
          <a:xfrm rot="2980200">
            <a:off x="7081200" y="4113720"/>
            <a:ext cx="268200" cy="231840"/>
          </a:xfrm>
          <a:prstGeom prst="triangle">
            <a:avLst>
              <a:gd name="adj" fmla="val 50000"/>
            </a:avLst>
          </a:pr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3779600">
            <a:off x="1940400" y="3287880"/>
            <a:ext cx="268200" cy="231480"/>
          </a:xfrm>
          <a:prstGeom prst="triangle">
            <a:avLst>
              <a:gd name="adj" fmla="val 50000"/>
            </a:avLst>
          </a:pr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dissolve/>
    <p:sndAc>
      <p:stSnd>
        <p:snd r:embed="rId1" name="PROJCTOR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14320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33"/>
                </a:solidFill>
                <a:latin typeface="Wide Latin"/>
              </a:rPr>
              <a:t>Parallelogra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85720" y="2954160"/>
            <a:ext cx="8096400" cy="1768680"/>
          </a:xfrm>
          <a:prstGeom prst="parallelogram">
            <a:avLst>
              <a:gd name="adj" fmla="val -104110"/>
            </a:avLst>
          </a:prstGeom>
          <a:solidFill>
            <a:srgbClr val="990033">
              <a:alpha val="50000"/>
            </a:srgbClr>
          </a:solidFill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7083360" y="2813040"/>
            <a:ext cx="574200" cy="268200"/>
            <a:chOff x="7083360" y="2813040"/>
            <a:chExt cx="574200" cy="268200"/>
          </a:xfrm>
        </p:grpSpPr>
        <p:sp>
          <p:nvSpPr>
            <p:cNvPr id="158" name=""/>
            <p:cNvSpPr/>
            <p:nvPr/>
          </p:nvSpPr>
          <p:spPr>
            <a:xfrm rot="5400000">
              <a:off x="7065000" y="2831040"/>
              <a:ext cx="268200" cy="231840"/>
            </a:xfrm>
            <a:prstGeom prst="triangle">
              <a:avLst>
                <a:gd name="adj" fmla="val 50000"/>
              </a:avLst>
            </a:prstGeom>
            <a:solidFill>
              <a:srgbClr val="990033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rot="5400000">
              <a:off x="7407720" y="2831400"/>
              <a:ext cx="268200" cy="231480"/>
            </a:xfrm>
            <a:prstGeom prst="triangle">
              <a:avLst>
                <a:gd name="adj" fmla="val 50000"/>
              </a:avLst>
            </a:prstGeom>
            <a:solidFill>
              <a:srgbClr val="990033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603800" y="4572000"/>
            <a:ext cx="574200" cy="268200"/>
            <a:chOff x="1603800" y="4572000"/>
            <a:chExt cx="574200" cy="268200"/>
          </a:xfrm>
        </p:grpSpPr>
        <p:sp>
          <p:nvSpPr>
            <p:cNvPr id="161" name=""/>
            <p:cNvSpPr/>
            <p:nvPr/>
          </p:nvSpPr>
          <p:spPr>
            <a:xfrm flipH="1" rot="16200000">
              <a:off x="1927800" y="4590000"/>
              <a:ext cx="268200" cy="231840"/>
            </a:xfrm>
            <a:prstGeom prst="triangle">
              <a:avLst>
                <a:gd name="adj" fmla="val 50000"/>
              </a:avLst>
            </a:prstGeom>
            <a:solidFill>
              <a:srgbClr val="990033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 rot="16200000">
              <a:off x="1585080" y="4590360"/>
              <a:ext cx="268200" cy="231480"/>
            </a:xfrm>
            <a:prstGeom prst="triangle">
              <a:avLst>
                <a:gd name="adj" fmla="val 50000"/>
              </a:avLst>
            </a:prstGeom>
            <a:solidFill>
              <a:srgbClr val="990033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" name=""/>
          <p:cNvSpPr/>
          <p:nvPr/>
        </p:nvSpPr>
        <p:spPr>
          <a:xfrm rot="2980200">
            <a:off x="7081200" y="4113720"/>
            <a:ext cx="268200" cy="231840"/>
          </a:xfrm>
          <a:prstGeom prst="triangle">
            <a:avLst>
              <a:gd name="adj" fmla="val 50000"/>
            </a:avLst>
          </a:pr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3779600">
            <a:off x="1940400" y="3287880"/>
            <a:ext cx="268200" cy="231480"/>
          </a:xfrm>
          <a:prstGeom prst="triangle">
            <a:avLst>
              <a:gd name="adj" fmla="val 50000"/>
            </a:avLst>
          </a:pr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240" bIns="30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dissolve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" name=""/>
          <p:cNvGrpSpPr/>
          <p:nvPr/>
        </p:nvGrpSpPr>
        <p:grpSpPr>
          <a:xfrm>
            <a:off x="2403360" y="2800440"/>
            <a:ext cx="4338720" cy="3011400"/>
            <a:chOff x="2403360" y="2800440"/>
            <a:chExt cx="4338720" cy="3011400"/>
          </a:xfrm>
        </p:grpSpPr>
        <p:grpSp>
          <p:nvGrpSpPr>
            <p:cNvPr id="167" name=""/>
            <p:cNvGrpSpPr/>
            <p:nvPr/>
          </p:nvGrpSpPr>
          <p:grpSpPr>
            <a:xfrm>
              <a:off x="2403360" y="2800440"/>
              <a:ext cx="4338720" cy="3011400"/>
              <a:chOff x="2403360" y="2800440"/>
              <a:chExt cx="4338720" cy="3011400"/>
            </a:xfrm>
          </p:grpSpPr>
          <p:sp>
            <p:nvSpPr>
              <p:cNvPr id="168" name=""/>
              <p:cNvSpPr/>
              <p:nvPr/>
            </p:nvSpPr>
            <p:spPr>
              <a:xfrm>
                <a:off x="2403360" y="2800440"/>
                <a:ext cx="4338720" cy="3011400"/>
              </a:xfrm>
              <a:custGeom>
                <a:avLst/>
                <a:gdLst/>
                <a:ahLst/>
                <a:rect l="l" t="t" r="r" b="b"/>
                <a:pathLst>
                  <a:path w="432" h="720">
                    <a:moveTo>
                      <a:pt x="0" y="0"/>
                    </a:moveTo>
                    <a:lnTo>
                      <a:pt x="0" y="720"/>
                    </a:lnTo>
                    <a:lnTo>
                      <a:pt x="432" y="720"/>
                    </a:lnTo>
                    <a:lnTo>
                      <a:pt x="432" y="2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0033">
                  <a:alpha val="50000"/>
                </a:srgbClr>
              </a:solidFill>
              <a:ln w="57240">
                <a:solidFill>
                  <a:srgbClr val="99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403360" y="5616720"/>
                <a:ext cx="195480" cy="195120"/>
              </a:xfrm>
              <a:prstGeom prst="rect">
                <a:avLst/>
              </a:prstGeom>
              <a:noFill/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6546960" y="5616720"/>
              <a:ext cx="195120" cy="195120"/>
            </a:xfrm>
            <a:prstGeom prst="rect">
              <a:avLst/>
            </a:prstGeom>
            <a:noFill/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dissolve/>
    <p:sndAc>
      <p:stSnd>
        <p:snd r:embed="rId1" name="PROJCTOR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876240" y="143208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Wide Latin"/>
              </a:rPr>
              <a:t>Trapezoi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403360" y="2800440"/>
            <a:ext cx="4338720" cy="3011400"/>
            <a:chOff x="2403360" y="2800440"/>
            <a:chExt cx="4338720" cy="3011400"/>
          </a:xfrm>
        </p:grpSpPr>
        <p:grpSp>
          <p:nvGrpSpPr>
            <p:cNvPr id="174" name=""/>
            <p:cNvGrpSpPr/>
            <p:nvPr/>
          </p:nvGrpSpPr>
          <p:grpSpPr>
            <a:xfrm>
              <a:off x="2403360" y="2800440"/>
              <a:ext cx="4338720" cy="3011400"/>
              <a:chOff x="2403360" y="2800440"/>
              <a:chExt cx="4338720" cy="3011400"/>
            </a:xfrm>
          </p:grpSpPr>
          <p:sp>
            <p:nvSpPr>
              <p:cNvPr id="175" name=""/>
              <p:cNvSpPr/>
              <p:nvPr/>
            </p:nvSpPr>
            <p:spPr>
              <a:xfrm>
                <a:off x="2403360" y="2800440"/>
                <a:ext cx="4338720" cy="3011400"/>
              </a:xfrm>
              <a:custGeom>
                <a:avLst/>
                <a:gdLst/>
                <a:ahLst/>
                <a:rect l="l" t="t" r="r" b="b"/>
                <a:pathLst>
                  <a:path w="432" h="720">
                    <a:moveTo>
                      <a:pt x="0" y="0"/>
                    </a:moveTo>
                    <a:lnTo>
                      <a:pt x="0" y="720"/>
                    </a:lnTo>
                    <a:lnTo>
                      <a:pt x="432" y="720"/>
                    </a:lnTo>
                    <a:lnTo>
                      <a:pt x="432" y="28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0033">
                  <a:alpha val="50000"/>
                </a:srgbClr>
              </a:solidFill>
              <a:ln w="57240">
                <a:solidFill>
                  <a:srgbClr val="9900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403360" y="5616720"/>
                <a:ext cx="195480" cy="195120"/>
              </a:xfrm>
              <a:prstGeom prst="rect">
                <a:avLst/>
              </a:prstGeom>
              <a:noFill/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" name=""/>
            <p:cNvSpPr/>
            <p:nvPr/>
          </p:nvSpPr>
          <p:spPr>
            <a:xfrm>
              <a:off x="6546960" y="5616720"/>
              <a:ext cx="195120" cy="195120"/>
            </a:xfrm>
            <a:prstGeom prst="rect">
              <a:avLst/>
            </a:prstGeom>
            <a:noFill/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dissolve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1828800" y="2362320"/>
            <a:ext cx="5334120" cy="3555720"/>
          </a:xfrm>
          <a:custGeom>
            <a:avLst/>
            <a:gdLst/>
            <a:ahLst/>
            <a:rect l="l" t="t" r="r" b="b"/>
            <a:pathLst>
              <a:path w="1152" h="768">
                <a:moveTo>
                  <a:pt x="528" y="0"/>
                </a:moveTo>
                <a:lnTo>
                  <a:pt x="0" y="768"/>
                </a:lnTo>
                <a:lnTo>
                  <a:pt x="1152" y="624"/>
                </a:lnTo>
                <a:lnTo>
                  <a:pt x="432" y="432"/>
                </a:lnTo>
                <a:lnTo>
                  <a:pt x="528" y="0"/>
                </a:lnTo>
                <a:close/>
              </a:path>
            </a:pathLst>
          </a:custGeom>
          <a:solidFill>
            <a:srgbClr val="990033">
              <a:alpha val="50000"/>
            </a:srgbClr>
          </a:solidFill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dissolve/>
    <p:sndAc>
      <p:stSnd>
        <p:snd r:embed="rId1" name="PROJCTOR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0" y="14320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Wide Latin"/>
              </a:rPr>
              <a:t>Quadrilatera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2362320"/>
            <a:ext cx="5334120" cy="3555720"/>
          </a:xfrm>
          <a:custGeom>
            <a:avLst/>
            <a:gdLst/>
            <a:ahLst/>
            <a:rect l="l" t="t" r="r" b="b"/>
            <a:pathLst>
              <a:path w="1152" h="768">
                <a:moveTo>
                  <a:pt x="528" y="0"/>
                </a:moveTo>
                <a:lnTo>
                  <a:pt x="0" y="768"/>
                </a:lnTo>
                <a:lnTo>
                  <a:pt x="1152" y="624"/>
                </a:lnTo>
                <a:lnTo>
                  <a:pt x="432" y="432"/>
                </a:lnTo>
                <a:lnTo>
                  <a:pt x="528" y="0"/>
                </a:lnTo>
                <a:close/>
              </a:path>
            </a:pathLst>
          </a:custGeom>
          <a:solidFill>
            <a:srgbClr val="990033">
              <a:alpha val="50000"/>
            </a:srgbClr>
          </a:solidFill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dissolve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"/>
          <p:cNvGrpSpPr/>
          <p:nvPr/>
        </p:nvGrpSpPr>
        <p:grpSpPr>
          <a:xfrm>
            <a:off x="3336480" y="2714760"/>
            <a:ext cx="2476440" cy="3177720"/>
            <a:chOff x="3336480" y="2714760"/>
            <a:chExt cx="2476440" cy="3177720"/>
          </a:xfrm>
        </p:grpSpPr>
        <p:grpSp>
          <p:nvGrpSpPr>
            <p:cNvPr id="185" name=""/>
            <p:cNvGrpSpPr/>
            <p:nvPr/>
          </p:nvGrpSpPr>
          <p:grpSpPr>
            <a:xfrm>
              <a:off x="4618080" y="5624280"/>
              <a:ext cx="574200" cy="268200"/>
              <a:chOff x="4618080" y="5624280"/>
              <a:chExt cx="574200" cy="268200"/>
            </a:xfrm>
          </p:grpSpPr>
          <p:sp>
            <p:nvSpPr>
              <p:cNvPr id="186" name=""/>
              <p:cNvSpPr/>
              <p:nvPr/>
            </p:nvSpPr>
            <p:spPr>
              <a:xfrm rot="5400000">
                <a:off x="4599720" y="5642280"/>
                <a:ext cx="268200" cy="231840"/>
              </a:xfrm>
              <a:prstGeom prst="triangle">
                <a:avLst>
                  <a:gd name="adj" fmla="val 50000"/>
                </a:avLst>
              </a:prstGeom>
              <a:solidFill>
                <a:srgbClr val="990033"/>
              </a:solidFill>
              <a:ln w="936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 rot="5400000">
                <a:off x="4942440" y="5642640"/>
                <a:ext cx="268200" cy="231480"/>
              </a:xfrm>
              <a:prstGeom prst="triangle">
                <a:avLst>
                  <a:gd name="adj" fmla="val 50000"/>
                </a:avLst>
              </a:prstGeom>
              <a:solidFill>
                <a:srgbClr val="990033"/>
              </a:solidFill>
              <a:ln w="936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3943800" y="2714760"/>
              <a:ext cx="574200" cy="268200"/>
              <a:chOff x="3943800" y="2714760"/>
              <a:chExt cx="574200" cy="268200"/>
            </a:xfrm>
          </p:grpSpPr>
          <p:sp>
            <p:nvSpPr>
              <p:cNvPr id="189" name=""/>
              <p:cNvSpPr/>
              <p:nvPr/>
            </p:nvSpPr>
            <p:spPr>
              <a:xfrm flipH="1" rot="16200000">
                <a:off x="4267800" y="2732760"/>
                <a:ext cx="268200" cy="231840"/>
              </a:xfrm>
              <a:prstGeom prst="triangle">
                <a:avLst>
                  <a:gd name="adj" fmla="val 50000"/>
                </a:avLst>
              </a:prstGeom>
              <a:solidFill>
                <a:srgbClr val="990033"/>
              </a:solidFill>
              <a:ln w="936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flipH="1" rot="16200000">
                <a:off x="3925080" y="2733120"/>
                <a:ext cx="268200" cy="231480"/>
              </a:xfrm>
              <a:prstGeom prst="triangle">
                <a:avLst>
                  <a:gd name="adj" fmla="val 50000"/>
                </a:avLst>
              </a:prstGeom>
              <a:solidFill>
                <a:srgbClr val="990033"/>
              </a:solidFill>
              <a:ln w="936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1" name=""/>
            <p:cNvSpPr/>
            <p:nvPr/>
          </p:nvSpPr>
          <p:spPr>
            <a:xfrm>
              <a:off x="3362400" y="2867040"/>
              <a:ext cx="2421000" cy="2910960"/>
            </a:xfrm>
            <a:prstGeom prst="parallelogram">
              <a:avLst>
                <a:gd name="adj" fmla="val 10111"/>
              </a:avLst>
            </a:prstGeom>
            <a:solidFill>
              <a:srgbClr val="990033">
                <a:alpha val="50000"/>
              </a:srgbClr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3874200">
              <a:off x="3364560" y="4529520"/>
              <a:ext cx="267840" cy="231840"/>
            </a:xfrm>
            <a:prstGeom prst="triangle">
              <a:avLst>
                <a:gd name="adj" fmla="val 50000"/>
              </a:avLst>
            </a:prstGeom>
            <a:solidFill>
              <a:srgbClr val="990033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rot="3874200">
              <a:off x="5517000" y="4531320"/>
              <a:ext cx="267840" cy="231480"/>
            </a:xfrm>
            <a:prstGeom prst="triangle">
              <a:avLst>
                <a:gd name="adj" fmla="val 50000"/>
              </a:avLst>
            </a:prstGeom>
            <a:solidFill>
              <a:srgbClr val="990033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dissolve/>
    <p:sndAc>
      <p:stSnd>
        <p:snd r:embed="rId1" name="PROJCTOR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Wide Latin"/>
              </a:rPr>
              <a:t>Directions:</a:t>
            </a:r>
            <a:endParaRPr b="0" lang="en-US" sz="44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When the slide appears say the best name for the quadrilateral aloud.</a:t>
            </a: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Try to beat the computer by saying the  answer before the computer in 4 seconds.</a:t>
            </a: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Press a number key on the keyboard to pause.</a:t>
            </a: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Press the space bar to resume.</a:t>
            </a:r>
            <a:endParaRPr b="0" lang="en-US" sz="3200" spc="-1" strike="noStrike">
              <a:solidFill>
                <a:srgbClr val="990033"/>
              </a:solidFill>
              <a:latin typeface="Comic Sans MS"/>
            </a:endParaRPr>
          </a:p>
        </p:txBody>
      </p:sp>
      <p:sp>
        <p:nvSpPr>
          <p:cNvPr id="56" name="">
            <a:hlinkClick r:id="" action="ppaction://hlinkshowjump?jump=nextslide"/>
          </p:cNvPr>
          <p:cNvSpPr/>
          <p:nvPr/>
        </p:nvSpPr>
        <p:spPr>
          <a:xfrm>
            <a:off x="8685360" y="5702400"/>
            <a:ext cx="411120" cy="422280"/>
          </a:xfrm>
          <a:custGeom>
            <a:avLst/>
            <a:gdLst>
              <a:gd name="textAreaLeft" fmla="*/ 26640 w 411120"/>
              <a:gd name="textAreaRight" fmla="*/ 384480 w 411120"/>
              <a:gd name="textAreaTop" fmla="*/ 26640 h 422280"/>
              <a:gd name="textAreaBottom" fmla="*/ 395640 h 422280"/>
            </a:gdLst>
            <a:ahLst/>
            <a:rect l="textAreaLeft" t="textAreaTop" r="textAreaRight" b="textAreaBottom"/>
            <a:pathLst>
              <a:path w="21600" h="22186">
                <a:moveTo>
                  <a:pt x="0" y="0"/>
                </a:moveTo>
                <a:lnTo>
                  <a:pt x="21600" y="0"/>
                </a:lnTo>
                <a:lnTo>
                  <a:pt x="21600" y="22186"/>
                </a:lnTo>
                <a:lnTo>
                  <a:pt x="0" y="22186"/>
                </a:lnTo>
                <a:close/>
              </a:path>
              <a:path fill="lightenLess" w="21600" h="22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186">
                <a:moveTo>
                  <a:pt x="21600" y="0"/>
                </a:moveTo>
                <a:lnTo>
                  <a:pt x="21600" y="22186"/>
                </a:lnTo>
                <a:lnTo>
                  <a:pt x="20200" y="20786"/>
                </a:lnTo>
                <a:lnTo>
                  <a:pt x="20200" y="1400"/>
                </a:lnTo>
                <a:close/>
              </a:path>
              <a:path fill="darkenLess" w="21600" h="22186">
                <a:moveTo>
                  <a:pt x="21600" y="22186"/>
                </a:moveTo>
                <a:lnTo>
                  <a:pt x="0" y="22186"/>
                </a:lnTo>
                <a:lnTo>
                  <a:pt x="1400" y="20786"/>
                </a:lnTo>
                <a:lnTo>
                  <a:pt x="20200" y="20786"/>
                </a:lnTo>
                <a:close/>
              </a:path>
              <a:path fill="lighten" w="21600" h="22186">
                <a:moveTo>
                  <a:pt x="0" y="22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786"/>
                </a:lnTo>
                <a:close/>
              </a:path>
              <a:path fill="darken" w="21600" h="22186">
                <a:moveTo>
                  <a:pt x="3794" y="4086"/>
                </a:moveTo>
                <a:lnTo>
                  <a:pt x="17806" y="11093"/>
                </a:lnTo>
                <a:lnTo>
                  <a:pt x="3794" y="18099"/>
                </a:lnTo>
                <a:close/>
              </a:path>
            </a:pathLst>
          </a:custGeom>
          <a:solidFill>
            <a:srgbClr val="ff8db3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143208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33"/>
                </a:solidFill>
                <a:latin typeface="Wide Latin"/>
              </a:rPr>
              <a:t>Parallelogram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3336480" y="2714760"/>
            <a:ext cx="2476440" cy="3177720"/>
            <a:chOff x="3336480" y="2714760"/>
            <a:chExt cx="2476440" cy="3177720"/>
          </a:xfrm>
        </p:grpSpPr>
        <p:grpSp>
          <p:nvGrpSpPr>
            <p:cNvPr id="197" name=""/>
            <p:cNvGrpSpPr/>
            <p:nvPr/>
          </p:nvGrpSpPr>
          <p:grpSpPr>
            <a:xfrm>
              <a:off x="4618080" y="5624280"/>
              <a:ext cx="574200" cy="268200"/>
              <a:chOff x="4618080" y="5624280"/>
              <a:chExt cx="574200" cy="268200"/>
            </a:xfrm>
          </p:grpSpPr>
          <p:sp>
            <p:nvSpPr>
              <p:cNvPr id="198" name=""/>
              <p:cNvSpPr/>
              <p:nvPr/>
            </p:nvSpPr>
            <p:spPr>
              <a:xfrm rot="5400000">
                <a:off x="4599720" y="5642280"/>
                <a:ext cx="268200" cy="231840"/>
              </a:xfrm>
              <a:prstGeom prst="triangle">
                <a:avLst>
                  <a:gd name="adj" fmla="val 50000"/>
                </a:avLst>
              </a:prstGeom>
              <a:solidFill>
                <a:srgbClr val="990033"/>
              </a:solidFill>
              <a:ln w="936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5400000">
                <a:off x="4942440" y="5642640"/>
                <a:ext cx="268200" cy="231480"/>
              </a:xfrm>
              <a:prstGeom prst="triangle">
                <a:avLst>
                  <a:gd name="adj" fmla="val 50000"/>
                </a:avLst>
              </a:prstGeom>
              <a:solidFill>
                <a:srgbClr val="990033"/>
              </a:solidFill>
              <a:ln w="936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3943800" y="2714760"/>
              <a:ext cx="574200" cy="268200"/>
              <a:chOff x="3943800" y="2714760"/>
              <a:chExt cx="574200" cy="268200"/>
            </a:xfrm>
          </p:grpSpPr>
          <p:sp>
            <p:nvSpPr>
              <p:cNvPr id="201" name=""/>
              <p:cNvSpPr/>
              <p:nvPr/>
            </p:nvSpPr>
            <p:spPr>
              <a:xfrm flipH="1" rot="16200000">
                <a:off x="4267800" y="2732760"/>
                <a:ext cx="268200" cy="231840"/>
              </a:xfrm>
              <a:prstGeom prst="triangle">
                <a:avLst>
                  <a:gd name="adj" fmla="val 50000"/>
                </a:avLst>
              </a:prstGeom>
              <a:solidFill>
                <a:srgbClr val="990033"/>
              </a:solidFill>
              <a:ln w="936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H="1" rot="16200000">
                <a:off x="3925080" y="2733120"/>
                <a:ext cx="268200" cy="231480"/>
              </a:xfrm>
              <a:prstGeom prst="triangle">
                <a:avLst>
                  <a:gd name="adj" fmla="val 50000"/>
                </a:avLst>
              </a:prstGeom>
              <a:solidFill>
                <a:srgbClr val="990033"/>
              </a:solidFill>
              <a:ln w="936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240" bIns="30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>
              <a:off x="3362400" y="2867040"/>
              <a:ext cx="2421000" cy="2910960"/>
            </a:xfrm>
            <a:prstGeom prst="parallelogram">
              <a:avLst>
                <a:gd name="adj" fmla="val 10111"/>
              </a:avLst>
            </a:prstGeom>
            <a:solidFill>
              <a:srgbClr val="990033">
                <a:alpha val="50000"/>
              </a:srgbClr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rot="3874200">
              <a:off x="3364560" y="4529520"/>
              <a:ext cx="267840" cy="231840"/>
            </a:xfrm>
            <a:prstGeom prst="triangle">
              <a:avLst>
                <a:gd name="adj" fmla="val 50000"/>
              </a:avLst>
            </a:prstGeom>
            <a:solidFill>
              <a:srgbClr val="990033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rot="3874200">
              <a:off x="5517000" y="4531320"/>
              <a:ext cx="267840" cy="231480"/>
            </a:xfrm>
            <a:prstGeom prst="triangle">
              <a:avLst>
                <a:gd name="adj" fmla="val 50000"/>
              </a:avLst>
            </a:prstGeom>
            <a:solidFill>
              <a:srgbClr val="990033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dissolve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"/>
          <p:cNvGrpSpPr/>
          <p:nvPr/>
        </p:nvGrpSpPr>
        <p:grpSpPr>
          <a:xfrm>
            <a:off x="1346040" y="2935440"/>
            <a:ext cx="6450120" cy="2666880"/>
            <a:chOff x="1346040" y="2935440"/>
            <a:chExt cx="6450120" cy="2666880"/>
          </a:xfrm>
        </p:grpSpPr>
        <p:sp>
          <p:nvSpPr>
            <p:cNvPr id="208" name=""/>
            <p:cNvSpPr/>
            <p:nvPr/>
          </p:nvSpPr>
          <p:spPr>
            <a:xfrm>
              <a:off x="1346040" y="3089160"/>
              <a:ext cx="6450120" cy="2381400"/>
            </a:xfrm>
            <a:custGeom>
              <a:avLst/>
              <a:gdLst/>
              <a:ahLst/>
              <a:rect l="l" t="t" r="r" b="b"/>
              <a:pathLst>
                <a:path w="4063" h="1500">
                  <a:moveTo>
                    <a:pt x="0" y="1500"/>
                  </a:moveTo>
                  <a:lnTo>
                    <a:pt x="3798" y="1500"/>
                  </a:lnTo>
                  <a:lnTo>
                    <a:pt x="4063" y="0"/>
                  </a:lnTo>
                  <a:lnTo>
                    <a:pt x="3018" y="0"/>
                  </a:lnTo>
                  <a:lnTo>
                    <a:pt x="0" y="1500"/>
                  </a:lnTo>
                  <a:close/>
                </a:path>
              </a:pathLst>
            </a:custGeom>
            <a:solidFill>
              <a:srgbClr val="990033">
                <a:alpha val="50000"/>
              </a:srgbClr>
            </a:solidFill>
            <a:ln w="5724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rot="5400000">
              <a:off x="6860160" y="2953440"/>
              <a:ext cx="268200" cy="231840"/>
            </a:xfrm>
            <a:prstGeom prst="triangle">
              <a:avLst>
                <a:gd name="adj" fmla="val 50000"/>
              </a:avLst>
            </a:prstGeom>
            <a:solidFill>
              <a:srgbClr val="990033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rot="5400000">
              <a:off x="4437720" y="5352120"/>
              <a:ext cx="268200" cy="231840"/>
            </a:xfrm>
            <a:prstGeom prst="triangle">
              <a:avLst>
                <a:gd name="adj" fmla="val 50000"/>
              </a:avLst>
            </a:prstGeom>
            <a:solidFill>
              <a:srgbClr val="990033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dissolve/>
    <p:sndAc>
      <p:stSnd>
        <p:snd r:embed="rId1" name="PROJCTOR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876240" y="143208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Wide Latin"/>
              </a:rPr>
              <a:t>Trapezoi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346040" y="2935440"/>
            <a:ext cx="6450120" cy="2666880"/>
            <a:chOff x="1346040" y="2935440"/>
            <a:chExt cx="6450120" cy="2666880"/>
          </a:xfrm>
        </p:grpSpPr>
        <p:sp>
          <p:nvSpPr>
            <p:cNvPr id="214" name=""/>
            <p:cNvSpPr/>
            <p:nvPr/>
          </p:nvSpPr>
          <p:spPr>
            <a:xfrm>
              <a:off x="1346040" y="3089160"/>
              <a:ext cx="6450120" cy="2381400"/>
            </a:xfrm>
            <a:custGeom>
              <a:avLst/>
              <a:gdLst/>
              <a:ahLst/>
              <a:rect l="l" t="t" r="r" b="b"/>
              <a:pathLst>
                <a:path w="4063" h="1500">
                  <a:moveTo>
                    <a:pt x="0" y="1500"/>
                  </a:moveTo>
                  <a:lnTo>
                    <a:pt x="3798" y="1500"/>
                  </a:lnTo>
                  <a:lnTo>
                    <a:pt x="4063" y="0"/>
                  </a:lnTo>
                  <a:lnTo>
                    <a:pt x="3018" y="0"/>
                  </a:lnTo>
                  <a:lnTo>
                    <a:pt x="0" y="1500"/>
                  </a:lnTo>
                  <a:close/>
                </a:path>
              </a:pathLst>
            </a:custGeom>
            <a:solidFill>
              <a:srgbClr val="990033">
                <a:alpha val="50000"/>
              </a:srgbClr>
            </a:solidFill>
            <a:ln w="57240">
              <a:solidFill>
                <a:srgbClr val="99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rot="5400000">
              <a:off x="6860160" y="2953440"/>
              <a:ext cx="268200" cy="231840"/>
            </a:xfrm>
            <a:prstGeom prst="triangle">
              <a:avLst>
                <a:gd name="adj" fmla="val 50000"/>
              </a:avLst>
            </a:prstGeom>
            <a:solidFill>
              <a:srgbClr val="990033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rot="5400000">
              <a:off x="4437720" y="5352120"/>
              <a:ext cx="268200" cy="231840"/>
            </a:xfrm>
            <a:prstGeom prst="triangle">
              <a:avLst>
                <a:gd name="adj" fmla="val 50000"/>
              </a:avLst>
            </a:prstGeom>
            <a:solidFill>
              <a:srgbClr val="990033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dissolve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2312640" y="2625840"/>
            <a:ext cx="4521960" cy="3409560"/>
            <a:chOff x="2312640" y="2625840"/>
            <a:chExt cx="4521960" cy="3409560"/>
          </a:xfrm>
        </p:grpSpPr>
        <p:grpSp>
          <p:nvGrpSpPr>
            <p:cNvPr id="219" name=""/>
            <p:cNvGrpSpPr/>
            <p:nvPr/>
          </p:nvGrpSpPr>
          <p:grpSpPr>
            <a:xfrm>
              <a:off x="2312640" y="2625840"/>
              <a:ext cx="4521960" cy="3409560"/>
              <a:chOff x="2312640" y="2625840"/>
              <a:chExt cx="4521960" cy="340956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2312640" y="2625840"/>
                <a:ext cx="4521960" cy="3409560"/>
                <a:chOff x="2312640" y="2625840"/>
                <a:chExt cx="4521960" cy="3409560"/>
              </a:xfrm>
            </p:grpSpPr>
            <p:sp>
              <p:nvSpPr>
                <p:cNvPr id="221" name=""/>
                <p:cNvSpPr/>
                <p:nvPr/>
              </p:nvSpPr>
              <p:spPr>
                <a:xfrm rot="20038200">
                  <a:off x="2338920" y="4418280"/>
                  <a:ext cx="143640" cy="154080"/>
                </a:xfrm>
                <a:prstGeom prst="rect">
                  <a:avLst/>
                </a:prstGeom>
                <a:noFill/>
                <a:ln w="572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2" name=""/>
                <p:cNvGrpSpPr/>
                <p:nvPr/>
              </p:nvGrpSpPr>
              <p:grpSpPr>
                <a:xfrm>
                  <a:off x="2312640" y="2625840"/>
                  <a:ext cx="4521960" cy="3409560"/>
                  <a:chOff x="2312640" y="2625840"/>
                  <a:chExt cx="4521960" cy="3409560"/>
                </a:xfrm>
              </p:grpSpPr>
              <p:sp>
                <p:nvSpPr>
                  <p:cNvPr id="223" name=""/>
                  <p:cNvSpPr/>
                  <p:nvPr/>
                </p:nvSpPr>
                <p:spPr>
                  <a:xfrm rot="20038200">
                    <a:off x="2485800" y="3452760"/>
                    <a:ext cx="4174920" cy="1755720"/>
                  </a:xfrm>
                  <a:prstGeom prst="rect">
                    <a:avLst/>
                  </a:prstGeom>
                  <a:solidFill>
                    <a:srgbClr val="990033">
                      <a:alpha val="50000"/>
                    </a:srgbClr>
                  </a:solidFill>
                  <a:ln w="57240">
                    <a:solidFill>
                      <a:srgbClr val="99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 rot="20038200">
                    <a:off x="5960880" y="2649240"/>
                    <a:ext cx="143640" cy="154080"/>
                  </a:xfrm>
                  <a:prstGeom prst="rect">
                    <a:avLst/>
                  </a:prstGeom>
                  <a:noFill/>
                  <a:ln w="57240">
                    <a:solidFill>
                      <a:srgbClr val="99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25" name=""/>
              <p:cNvSpPr/>
              <p:nvPr/>
            </p:nvSpPr>
            <p:spPr>
              <a:xfrm rot="20038200">
                <a:off x="3041640" y="5857200"/>
                <a:ext cx="143640" cy="154080"/>
              </a:xfrm>
              <a:prstGeom prst="rect">
                <a:avLst/>
              </a:prstGeom>
              <a:noFill/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 rot="20038200">
              <a:off x="6663600" y="4088160"/>
              <a:ext cx="143640" cy="154080"/>
            </a:xfrm>
            <a:prstGeom prst="rect">
              <a:avLst/>
            </a:prstGeom>
            <a:noFill/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dissolve/>
    <p:sndAc>
      <p:stSnd>
        <p:snd r:embed="rId1" name="PROJCTOR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876240" y="143208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Wide Latin"/>
              </a:rPr>
              <a:t>Rectangl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2312640" y="2625840"/>
            <a:ext cx="4521960" cy="3409560"/>
            <a:chOff x="2312640" y="2625840"/>
            <a:chExt cx="4521960" cy="3409560"/>
          </a:xfrm>
        </p:grpSpPr>
        <p:grpSp>
          <p:nvGrpSpPr>
            <p:cNvPr id="230" name=""/>
            <p:cNvGrpSpPr/>
            <p:nvPr/>
          </p:nvGrpSpPr>
          <p:grpSpPr>
            <a:xfrm>
              <a:off x="2312640" y="2625840"/>
              <a:ext cx="4521960" cy="3409560"/>
              <a:chOff x="2312640" y="2625840"/>
              <a:chExt cx="4521960" cy="340956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2312640" y="2625840"/>
                <a:ext cx="4521960" cy="3409560"/>
                <a:chOff x="2312640" y="2625840"/>
                <a:chExt cx="4521960" cy="3409560"/>
              </a:xfrm>
            </p:grpSpPr>
            <p:sp>
              <p:nvSpPr>
                <p:cNvPr id="232" name=""/>
                <p:cNvSpPr/>
                <p:nvPr/>
              </p:nvSpPr>
              <p:spPr>
                <a:xfrm rot="20038200">
                  <a:off x="2338920" y="4418280"/>
                  <a:ext cx="143640" cy="154080"/>
                </a:xfrm>
                <a:prstGeom prst="rect">
                  <a:avLst/>
                </a:prstGeom>
                <a:noFill/>
                <a:ln w="572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3" name=""/>
                <p:cNvGrpSpPr/>
                <p:nvPr/>
              </p:nvGrpSpPr>
              <p:grpSpPr>
                <a:xfrm>
                  <a:off x="2312640" y="2625840"/>
                  <a:ext cx="4521960" cy="3409560"/>
                  <a:chOff x="2312640" y="2625840"/>
                  <a:chExt cx="4521960" cy="340956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 rot="20038200">
                    <a:off x="2485800" y="3452760"/>
                    <a:ext cx="4174920" cy="1755720"/>
                  </a:xfrm>
                  <a:prstGeom prst="rect">
                    <a:avLst/>
                  </a:prstGeom>
                  <a:solidFill>
                    <a:srgbClr val="990033">
                      <a:alpha val="50000"/>
                    </a:srgbClr>
                  </a:solidFill>
                  <a:ln w="57240">
                    <a:solidFill>
                      <a:srgbClr val="99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 rot="20038200">
                    <a:off x="5960880" y="2649240"/>
                    <a:ext cx="143640" cy="154080"/>
                  </a:xfrm>
                  <a:prstGeom prst="rect">
                    <a:avLst/>
                  </a:prstGeom>
                  <a:noFill/>
                  <a:ln w="57240">
                    <a:solidFill>
                      <a:srgbClr val="99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36" name=""/>
              <p:cNvSpPr/>
              <p:nvPr/>
            </p:nvSpPr>
            <p:spPr>
              <a:xfrm rot="20038200">
                <a:off x="3041640" y="5857200"/>
                <a:ext cx="143640" cy="154080"/>
              </a:xfrm>
              <a:prstGeom prst="rect">
                <a:avLst/>
              </a:prstGeom>
              <a:noFill/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 rot="20038200">
              <a:off x="6663600" y="4088160"/>
              <a:ext cx="143640" cy="154080"/>
            </a:xfrm>
            <a:prstGeom prst="rect">
              <a:avLst/>
            </a:prstGeom>
            <a:noFill/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384960" y="4933800"/>
            <a:ext cx="27590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This quadrilateral is al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a paralle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dissolve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887120" y="2376720"/>
            <a:ext cx="5468400" cy="3956760"/>
            <a:chOff x="1887120" y="2376720"/>
            <a:chExt cx="5468400" cy="3956760"/>
          </a:xfrm>
        </p:grpSpPr>
        <p:sp>
          <p:nvSpPr>
            <p:cNvPr id="241" name=""/>
            <p:cNvSpPr/>
            <p:nvPr/>
          </p:nvSpPr>
          <p:spPr>
            <a:xfrm rot="6767400">
              <a:off x="3528360" y="1848240"/>
              <a:ext cx="2185560" cy="5013360"/>
            </a:xfrm>
            <a:prstGeom prst="diamond">
              <a:avLst/>
            </a:prstGeom>
            <a:solidFill>
              <a:srgbClr val="990033">
                <a:alpha val="50000"/>
              </a:srgbClr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3736440" y="3102480"/>
              <a:ext cx="2275200" cy="1392840"/>
              <a:chOff x="3736440" y="3102480"/>
              <a:chExt cx="2275200" cy="1392840"/>
            </a:xfrm>
          </p:grpSpPr>
          <p:sp>
            <p:nvSpPr>
              <p:cNvPr id="243" name=""/>
              <p:cNvSpPr/>
              <p:nvPr/>
            </p:nvSpPr>
            <p:spPr>
              <a:xfrm flipH="1">
                <a:off x="3736440" y="3102480"/>
                <a:ext cx="174960" cy="550440"/>
              </a:xfrm>
              <a:prstGeom prst="line">
                <a:avLst/>
              </a:prstGeom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5740920" y="3984840"/>
                <a:ext cx="270720" cy="510480"/>
              </a:xfrm>
              <a:prstGeom prst="line">
                <a:avLst/>
              </a:prstGeom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3230280" y="4213440"/>
              <a:ext cx="2275200" cy="1392840"/>
              <a:chOff x="3230280" y="4213440"/>
              <a:chExt cx="2275200" cy="1392840"/>
            </a:xfrm>
          </p:grpSpPr>
          <p:sp>
            <p:nvSpPr>
              <p:cNvPr id="246" name=""/>
              <p:cNvSpPr/>
              <p:nvPr/>
            </p:nvSpPr>
            <p:spPr>
              <a:xfrm flipV="1">
                <a:off x="3230280" y="4213440"/>
                <a:ext cx="270720" cy="510480"/>
              </a:xfrm>
              <a:prstGeom prst="line">
                <a:avLst/>
              </a:prstGeom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V="1">
                <a:off x="5330520" y="5055480"/>
                <a:ext cx="174960" cy="550800"/>
              </a:xfrm>
              <a:prstGeom prst="line">
                <a:avLst/>
              </a:prstGeom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8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dissolve/>
    <p:sndAc>
      <p:stSnd>
        <p:snd r:embed="rId1" name="PROJCTOR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876240" y="143208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Wide Latin"/>
              </a:rPr>
              <a:t>Rhomb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887120" y="2376720"/>
            <a:ext cx="5468400" cy="3956760"/>
            <a:chOff x="1887120" y="2376720"/>
            <a:chExt cx="5468400" cy="3956760"/>
          </a:xfrm>
        </p:grpSpPr>
        <p:sp>
          <p:nvSpPr>
            <p:cNvPr id="251" name=""/>
            <p:cNvSpPr/>
            <p:nvPr/>
          </p:nvSpPr>
          <p:spPr>
            <a:xfrm rot="6767400">
              <a:off x="3528360" y="1848240"/>
              <a:ext cx="2185560" cy="5013360"/>
            </a:xfrm>
            <a:prstGeom prst="diamond">
              <a:avLst/>
            </a:prstGeom>
            <a:solidFill>
              <a:srgbClr val="990033">
                <a:alpha val="50000"/>
              </a:srgbClr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2" name=""/>
            <p:cNvGrpSpPr/>
            <p:nvPr/>
          </p:nvGrpSpPr>
          <p:grpSpPr>
            <a:xfrm>
              <a:off x="3736440" y="3102480"/>
              <a:ext cx="2275200" cy="1392840"/>
              <a:chOff x="3736440" y="3102480"/>
              <a:chExt cx="2275200" cy="1392840"/>
            </a:xfrm>
          </p:grpSpPr>
          <p:sp>
            <p:nvSpPr>
              <p:cNvPr id="253" name=""/>
              <p:cNvSpPr/>
              <p:nvPr/>
            </p:nvSpPr>
            <p:spPr>
              <a:xfrm flipH="1">
                <a:off x="3736440" y="3102480"/>
                <a:ext cx="174960" cy="550440"/>
              </a:xfrm>
              <a:prstGeom prst="line">
                <a:avLst/>
              </a:prstGeom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5740920" y="3984840"/>
                <a:ext cx="270720" cy="510480"/>
              </a:xfrm>
              <a:prstGeom prst="line">
                <a:avLst/>
              </a:prstGeom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3230280" y="4213440"/>
              <a:ext cx="2275200" cy="1392840"/>
              <a:chOff x="3230280" y="4213440"/>
              <a:chExt cx="2275200" cy="1392840"/>
            </a:xfrm>
          </p:grpSpPr>
          <p:sp>
            <p:nvSpPr>
              <p:cNvPr id="256" name=""/>
              <p:cNvSpPr/>
              <p:nvPr/>
            </p:nvSpPr>
            <p:spPr>
              <a:xfrm flipV="1">
                <a:off x="3230280" y="4213440"/>
                <a:ext cx="270720" cy="510480"/>
              </a:xfrm>
              <a:prstGeom prst="line">
                <a:avLst/>
              </a:prstGeom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V="1">
                <a:off x="5330520" y="5055480"/>
                <a:ext cx="174960" cy="550800"/>
              </a:xfrm>
              <a:prstGeom prst="line">
                <a:avLst/>
              </a:prstGeom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8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384960" y="2922480"/>
            <a:ext cx="27590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This quadrilateral is al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a paralle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dissolve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"/>
          <p:cNvGrpSpPr/>
          <p:nvPr/>
        </p:nvGrpSpPr>
        <p:grpSpPr>
          <a:xfrm>
            <a:off x="2781720" y="2511720"/>
            <a:ext cx="3609360" cy="3609000"/>
            <a:chOff x="2781720" y="2511720"/>
            <a:chExt cx="3609360" cy="3609000"/>
          </a:xfrm>
        </p:grpSpPr>
        <p:grpSp>
          <p:nvGrpSpPr>
            <p:cNvPr id="261" name=""/>
            <p:cNvGrpSpPr/>
            <p:nvPr/>
          </p:nvGrpSpPr>
          <p:grpSpPr>
            <a:xfrm>
              <a:off x="2781720" y="2511720"/>
              <a:ext cx="3609360" cy="3609000"/>
              <a:chOff x="2781720" y="2511720"/>
              <a:chExt cx="3609360" cy="360900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2781720" y="2511720"/>
                <a:ext cx="3609360" cy="3609000"/>
                <a:chOff x="2781720" y="2511720"/>
                <a:chExt cx="3609360" cy="3609000"/>
              </a:xfrm>
            </p:grpSpPr>
            <p:sp>
              <p:nvSpPr>
                <p:cNvPr id="263" name=""/>
                <p:cNvSpPr/>
                <p:nvPr/>
              </p:nvSpPr>
              <p:spPr>
                <a:xfrm rot="2700000">
                  <a:off x="2820600" y="4222440"/>
                  <a:ext cx="186480" cy="186480"/>
                </a:xfrm>
                <a:prstGeom prst="rect">
                  <a:avLst/>
                </a:prstGeom>
                <a:noFill/>
                <a:ln w="572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" name=""/>
                <p:cNvGrpSpPr/>
                <p:nvPr/>
              </p:nvGrpSpPr>
              <p:grpSpPr>
                <a:xfrm>
                  <a:off x="2781720" y="2511720"/>
                  <a:ext cx="3609360" cy="3609000"/>
                  <a:chOff x="2781720" y="2511720"/>
                  <a:chExt cx="3609360" cy="3609000"/>
                </a:xfrm>
              </p:grpSpPr>
              <p:grpSp>
                <p:nvGrpSpPr>
                  <p:cNvPr id="265" name=""/>
                  <p:cNvGrpSpPr/>
                  <p:nvPr/>
                </p:nvGrpSpPr>
                <p:grpSpPr>
                  <a:xfrm>
                    <a:off x="2781720" y="2511720"/>
                    <a:ext cx="3609360" cy="3609000"/>
                    <a:chOff x="2781720" y="2511720"/>
                    <a:chExt cx="3609360" cy="3609000"/>
                  </a:xfrm>
                </p:grpSpPr>
                <p:grpSp>
                  <p:nvGrpSpPr>
                    <p:cNvPr id="266" name=""/>
                    <p:cNvGrpSpPr/>
                    <p:nvPr/>
                  </p:nvGrpSpPr>
                  <p:grpSpPr>
                    <a:xfrm>
                      <a:off x="2781720" y="2511720"/>
                      <a:ext cx="3609360" cy="3609000"/>
                      <a:chOff x="2781720" y="2511720"/>
                      <a:chExt cx="3609360" cy="3609000"/>
                    </a:xfrm>
                  </p:grpSpPr>
                  <p:sp>
                    <p:nvSpPr>
                      <p:cNvPr id="267" name=""/>
                      <p:cNvSpPr/>
                      <p:nvPr/>
                    </p:nvSpPr>
                    <p:spPr>
                      <a:xfrm rot="2700000">
                        <a:off x="3310200" y="3040200"/>
                        <a:ext cx="2552040" cy="2552040"/>
                      </a:xfrm>
                      <a:prstGeom prst="rect">
                        <a:avLst/>
                      </a:prstGeom>
                      <a:solidFill>
                        <a:srgbClr val="990033">
                          <a:alpha val="50000"/>
                        </a:srgbClr>
                      </a:solidFill>
                      <a:ln w="57240">
                        <a:solidFill>
                          <a:srgbClr val="990033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68" name=""/>
                      <p:cNvSpPr/>
                      <p:nvPr/>
                    </p:nvSpPr>
                    <p:spPr>
                      <a:xfrm rot="2700000">
                        <a:off x="4493160" y="2550240"/>
                        <a:ext cx="186480" cy="186480"/>
                      </a:xfrm>
                      <a:prstGeom prst="rect">
                        <a:avLst/>
                      </a:prstGeom>
                      <a:noFill/>
                      <a:ln w="57240">
                        <a:solidFill>
                          <a:srgbClr val="990033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69" name=""/>
                    <p:cNvSpPr/>
                    <p:nvPr/>
                  </p:nvSpPr>
                  <p:spPr>
                    <a:xfrm rot="2700000">
                      <a:off x="6165720" y="4222440"/>
                      <a:ext cx="186480" cy="186480"/>
                    </a:xfrm>
                    <a:prstGeom prst="rect">
                      <a:avLst/>
                    </a:prstGeom>
                    <a:noFill/>
                    <a:ln w="57240">
                      <a:solidFill>
                        <a:srgbClr val="9900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70" name=""/>
                  <p:cNvSpPr/>
                  <p:nvPr/>
                </p:nvSpPr>
                <p:spPr>
                  <a:xfrm rot="2700000">
                    <a:off x="4493160" y="5895000"/>
                    <a:ext cx="186480" cy="186480"/>
                  </a:xfrm>
                  <a:prstGeom prst="rect">
                    <a:avLst/>
                  </a:prstGeom>
                  <a:noFill/>
                  <a:ln w="57240">
                    <a:solidFill>
                      <a:srgbClr val="99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71" name=""/>
              <p:cNvSpPr/>
              <p:nvPr/>
            </p:nvSpPr>
            <p:spPr>
              <a:xfrm flipH="1">
                <a:off x="5356440" y="3282120"/>
                <a:ext cx="263880" cy="263880"/>
              </a:xfrm>
              <a:prstGeom prst="line">
                <a:avLst/>
              </a:prstGeom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3552120" y="5086440"/>
                <a:ext cx="263880" cy="263880"/>
              </a:xfrm>
              <a:prstGeom prst="line">
                <a:avLst/>
              </a:prstGeom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 flipH="1" flipV="1">
              <a:off x="5342760" y="5072760"/>
              <a:ext cx="263880" cy="26388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3538080" y="3268080"/>
              <a:ext cx="264240" cy="26424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dissolve/>
    <p:sndAc>
      <p:stSnd>
        <p:snd r:embed="rId1" name="PROJCTOR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14320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Wide Latin"/>
              </a:rPr>
              <a:t>Squa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2781720" y="2511720"/>
            <a:ext cx="3609360" cy="3609000"/>
            <a:chOff x="2781720" y="2511720"/>
            <a:chExt cx="3609360" cy="3609000"/>
          </a:xfrm>
        </p:grpSpPr>
        <p:grpSp>
          <p:nvGrpSpPr>
            <p:cNvPr id="278" name=""/>
            <p:cNvGrpSpPr/>
            <p:nvPr/>
          </p:nvGrpSpPr>
          <p:grpSpPr>
            <a:xfrm>
              <a:off x="2781720" y="2511720"/>
              <a:ext cx="3609360" cy="3609000"/>
              <a:chOff x="2781720" y="2511720"/>
              <a:chExt cx="3609360" cy="3609000"/>
            </a:xfrm>
          </p:grpSpPr>
          <p:grpSp>
            <p:nvGrpSpPr>
              <p:cNvPr id="279" name=""/>
              <p:cNvGrpSpPr/>
              <p:nvPr/>
            </p:nvGrpSpPr>
            <p:grpSpPr>
              <a:xfrm>
                <a:off x="2781720" y="2511720"/>
                <a:ext cx="3609360" cy="3609000"/>
                <a:chOff x="2781720" y="2511720"/>
                <a:chExt cx="3609360" cy="3609000"/>
              </a:xfrm>
            </p:grpSpPr>
            <p:sp>
              <p:nvSpPr>
                <p:cNvPr id="280" name=""/>
                <p:cNvSpPr/>
                <p:nvPr/>
              </p:nvSpPr>
              <p:spPr>
                <a:xfrm rot="2700000">
                  <a:off x="2820600" y="4222440"/>
                  <a:ext cx="186480" cy="186480"/>
                </a:xfrm>
                <a:prstGeom prst="rect">
                  <a:avLst/>
                </a:prstGeom>
                <a:noFill/>
                <a:ln w="572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1" name=""/>
                <p:cNvGrpSpPr/>
                <p:nvPr/>
              </p:nvGrpSpPr>
              <p:grpSpPr>
                <a:xfrm>
                  <a:off x="2781720" y="2511720"/>
                  <a:ext cx="3609360" cy="3609000"/>
                  <a:chOff x="2781720" y="2511720"/>
                  <a:chExt cx="3609360" cy="3609000"/>
                </a:xfrm>
              </p:grpSpPr>
              <p:grpSp>
                <p:nvGrpSpPr>
                  <p:cNvPr id="282" name=""/>
                  <p:cNvGrpSpPr/>
                  <p:nvPr/>
                </p:nvGrpSpPr>
                <p:grpSpPr>
                  <a:xfrm>
                    <a:off x="2781720" y="2511720"/>
                    <a:ext cx="3609360" cy="3609000"/>
                    <a:chOff x="2781720" y="2511720"/>
                    <a:chExt cx="3609360" cy="3609000"/>
                  </a:xfrm>
                </p:grpSpPr>
                <p:grpSp>
                  <p:nvGrpSpPr>
                    <p:cNvPr id="283" name=""/>
                    <p:cNvGrpSpPr/>
                    <p:nvPr/>
                  </p:nvGrpSpPr>
                  <p:grpSpPr>
                    <a:xfrm>
                      <a:off x="2781720" y="2511720"/>
                      <a:ext cx="3609360" cy="3609000"/>
                      <a:chOff x="2781720" y="2511720"/>
                      <a:chExt cx="3609360" cy="3609000"/>
                    </a:xfrm>
                  </p:grpSpPr>
                  <p:sp>
                    <p:nvSpPr>
                      <p:cNvPr id="284" name=""/>
                      <p:cNvSpPr/>
                      <p:nvPr/>
                    </p:nvSpPr>
                    <p:spPr>
                      <a:xfrm rot="2700000">
                        <a:off x="3310200" y="3040200"/>
                        <a:ext cx="2552040" cy="2552040"/>
                      </a:xfrm>
                      <a:prstGeom prst="rect">
                        <a:avLst/>
                      </a:prstGeom>
                      <a:solidFill>
                        <a:srgbClr val="990033">
                          <a:alpha val="50000"/>
                        </a:srgbClr>
                      </a:solidFill>
                      <a:ln w="57240">
                        <a:solidFill>
                          <a:srgbClr val="990033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85" name=""/>
                      <p:cNvSpPr/>
                      <p:nvPr/>
                    </p:nvSpPr>
                    <p:spPr>
                      <a:xfrm rot="2700000">
                        <a:off x="4493160" y="2550240"/>
                        <a:ext cx="186480" cy="186480"/>
                      </a:xfrm>
                      <a:prstGeom prst="rect">
                        <a:avLst/>
                      </a:prstGeom>
                      <a:noFill/>
                      <a:ln w="57240">
                        <a:solidFill>
                          <a:srgbClr val="990033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86" name=""/>
                    <p:cNvSpPr/>
                    <p:nvPr/>
                  </p:nvSpPr>
                  <p:spPr>
                    <a:xfrm rot="2700000">
                      <a:off x="6165720" y="4222440"/>
                      <a:ext cx="186480" cy="186480"/>
                    </a:xfrm>
                    <a:prstGeom prst="rect">
                      <a:avLst/>
                    </a:prstGeom>
                    <a:noFill/>
                    <a:ln w="57240">
                      <a:solidFill>
                        <a:srgbClr val="9900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7" name=""/>
                  <p:cNvSpPr/>
                  <p:nvPr/>
                </p:nvSpPr>
                <p:spPr>
                  <a:xfrm rot="2700000">
                    <a:off x="4493160" y="5895000"/>
                    <a:ext cx="186480" cy="186480"/>
                  </a:xfrm>
                  <a:prstGeom prst="rect">
                    <a:avLst/>
                  </a:prstGeom>
                  <a:noFill/>
                  <a:ln w="57240">
                    <a:solidFill>
                      <a:srgbClr val="99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88" name=""/>
              <p:cNvSpPr/>
              <p:nvPr/>
            </p:nvSpPr>
            <p:spPr>
              <a:xfrm flipH="1">
                <a:off x="5356440" y="3282120"/>
                <a:ext cx="263880" cy="263880"/>
              </a:xfrm>
              <a:prstGeom prst="line">
                <a:avLst/>
              </a:prstGeom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flipH="1">
                <a:off x="3552120" y="5086440"/>
                <a:ext cx="263880" cy="263880"/>
              </a:xfrm>
              <a:prstGeom prst="line">
                <a:avLst/>
              </a:prstGeom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0" name=""/>
            <p:cNvSpPr/>
            <p:nvPr/>
          </p:nvSpPr>
          <p:spPr>
            <a:xfrm flipH="1" flipV="1">
              <a:off x="5342760" y="5072760"/>
              <a:ext cx="263880" cy="26388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3538080" y="3268080"/>
              <a:ext cx="264240" cy="26424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6384960" y="4219560"/>
            <a:ext cx="275904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This quadrilateral is al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a rectang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a rhom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a paralle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dissolve/>
    <p:sndAc>
      <p:stSnd>
        <p:snd r:embed="rId1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3214800" y="3429000"/>
            <a:ext cx="2714400" cy="26748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2027160" y="630360"/>
            <a:ext cx="5087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990033"/>
                </a:solidFill>
                <a:latin typeface="Wide Latin"/>
              </a:rPr>
              <a:t>You rock!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52560" y="2895480"/>
            <a:ext cx="7238880" cy="2568600"/>
          </a:xfrm>
          <a:custGeom>
            <a:avLst/>
            <a:gdLst>
              <a:gd name="textAreaLeft" fmla="*/ 1591920 w 7238880"/>
              <a:gd name="textAreaRight" fmla="*/ 5646960 w 7238880"/>
              <a:gd name="textAreaTop" fmla="*/ 564840 h 2568600"/>
              <a:gd name="textAreaBottom" fmla="*/ 2003760 h 256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0033">
              <a:alpha val="50000"/>
            </a:srgbClr>
          </a:solidFill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4437720" y="2763000"/>
            <a:ext cx="268560" cy="231840"/>
          </a:xfrm>
          <a:prstGeom prst="triangle">
            <a:avLst>
              <a:gd name="adj" fmla="val 50000"/>
            </a:avLst>
          </a:pr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4437720" y="5352120"/>
            <a:ext cx="268200" cy="231840"/>
          </a:xfrm>
          <a:prstGeom prst="triangle">
            <a:avLst>
              <a:gd name="adj" fmla="val 50000"/>
            </a:avLst>
          </a:pr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dissolve/>
    <p:sndAc>
      <p:stSnd>
        <p:snd r:embed="rId1" name="PROJCTOR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952560" y="2895480"/>
            <a:ext cx="7238880" cy="2568600"/>
          </a:xfrm>
          <a:custGeom>
            <a:avLst/>
            <a:gdLst>
              <a:gd name="textAreaLeft" fmla="*/ 1591920 w 7238880"/>
              <a:gd name="textAreaRight" fmla="*/ 5646960 w 7238880"/>
              <a:gd name="textAreaTop" fmla="*/ 564840 h 2568600"/>
              <a:gd name="textAreaBottom" fmla="*/ 2003760 h 256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990033">
              <a:alpha val="50000"/>
            </a:srgbClr>
          </a:solidFill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876240" y="143208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Wide Latin"/>
              </a:rPr>
              <a:t>Trapezoi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4437720" y="2763000"/>
            <a:ext cx="268560" cy="231840"/>
          </a:xfrm>
          <a:prstGeom prst="triangle">
            <a:avLst>
              <a:gd name="adj" fmla="val 50000"/>
            </a:avLst>
          </a:pr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5400000">
            <a:off x="4437720" y="5352120"/>
            <a:ext cx="268200" cy="231840"/>
          </a:xfrm>
          <a:prstGeom prst="triangle">
            <a:avLst>
              <a:gd name="adj" fmla="val 50000"/>
            </a:avLst>
          </a:prstGeom>
          <a:solidFill>
            <a:srgbClr val="990033"/>
          </a:solidFill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600" bIns="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dissolve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3004920" y="2514600"/>
            <a:ext cx="3133080" cy="3133440"/>
            <a:chOff x="3004920" y="2514600"/>
            <a:chExt cx="3133080" cy="3133440"/>
          </a:xfrm>
        </p:grpSpPr>
        <p:grpSp>
          <p:nvGrpSpPr>
            <p:cNvPr id="67" name=""/>
            <p:cNvGrpSpPr/>
            <p:nvPr/>
          </p:nvGrpSpPr>
          <p:grpSpPr>
            <a:xfrm>
              <a:off x="3225960" y="2514600"/>
              <a:ext cx="2733120" cy="3133440"/>
              <a:chOff x="3225960" y="2514600"/>
              <a:chExt cx="2733120" cy="3133440"/>
            </a:xfrm>
          </p:grpSpPr>
          <p:grpSp>
            <p:nvGrpSpPr>
              <p:cNvPr id="68" name=""/>
              <p:cNvGrpSpPr/>
              <p:nvPr/>
            </p:nvGrpSpPr>
            <p:grpSpPr>
              <a:xfrm>
                <a:off x="3225960" y="2714400"/>
                <a:ext cx="2733120" cy="2733480"/>
                <a:chOff x="3225960" y="2714400"/>
                <a:chExt cx="2733120" cy="273348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3225960" y="5247720"/>
                  <a:ext cx="199800" cy="199800"/>
                </a:xfrm>
                <a:prstGeom prst="rect">
                  <a:avLst/>
                </a:prstGeom>
                <a:noFill/>
                <a:ln w="572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" name=""/>
                <p:cNvGrpSpPr/>
                <p:nvPr/>
              </p:nvGrpSpPr>
              <p:grpSpPr>
                <a:xfrm>
                  <a:off x="3225960" y="2714400"/>
                  <a:ext cx="2733120" cy="2733480"/>
                  <a:chOff x="3225960" y="2714400"/>
                  <a:chExt cx="2733120" cy="2733480"/>
                </a:xfrm>
              </p:grpSpPr>
              <p:grpSp>
                <p:nvGrpSpPr>
                  <p:cNvPr id="71" name=""/>
                  <p:cNvGrpSpPr/>
                  <p:nvPr/>
                </p:nvGrpSpPr>
                <p:grpSpPr>
                  <a:xfrm>
                    <a:off x="3225960" y="2714400"/>
                    <a:ext cx="2733120" cy="2733480"/>
                    <a:chOff x="3225960" y="2714400"/>
                    <a:chExt cx="2733120" cy="2733480"/>
                  </a:xfrm>
                </p:grpSpPr>
                <p:grpSp>
                  <p:nvGrpSpPr>
                    <p:cNvPr id="72" name=""/>
                    <p:cNvGrpSpPr/>
                    <p:nvPr/>
                  </p:nvGrpSpPr>
                  <p:grpSpPr>
                    <a:xfrm>
                      <a:off x="3225960" y="2714400"/>
                      <a:ext cx="2733120" cy="2733480"/>
                      <a:chOff x="3225960" y="2714400"/>
                      <a:chExt cx="2733120" cy="2733480"/>
                    </a:xfrm>
                  </p:grpSpPr>
                  <p:sp>
                    <p:nvSpPr>
                      <p:cNvPr id="73" name=""/>
                      <p:cNvSpPr/>
                      <p:nvPr/>
                    </p:nvSpPr>
                    <p:spPr>
                      <a:xfrm>
                        <a:off x="3225960" y="2714400"/>
                        <a:ext cx="2733120" cy="2733480"/>
                      </a:xfrm>
                      <a:prstGeom prst="rect">
                        <a:avLst/>
                      </a:prstGeom>
                      <a:solidFill>
                        <a:srgbClr val="990033">
                          <a:alpha val="50000"/>
                        </a:srgbClr>
                      </a:solidFill>
                      <a:ln w="57240">
                        <a:solidFill>
                          <a:srgbClr val="990033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4" name=""/>
                      <p:cNvSpPr/>
                      <p:nvPr/>
                    </p:nvSpPr>
                    <p:spPr>
                      <a:xfrm>
                        <a:off x="3225960" y="2714400"/>
                        <a:ext cx="199800" cy="199800"/>
                      </a:xfrm>
                      <a:prstGeom prst="rect">
                        <a:avLst/>
                      </a:prstGeom>
                      <a:noFill/>
                      <a:ln w="57240">
                        <a:solidFill>
                          <a:srgbClr val="990033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5" name=""/>
                    <p:cNvSpPr/>
                    <p:nvPr/>
                  </p:nvSpPr>
                  <p:spPr>
                    <a:xfrm>
                      <a:off x="5758920" y="2714400"/>
                      <a:ext cx="199800" cy="199800"/>
                    </a:xfrm>
                    <a:prstGeom prst="rect">
                      <a:avLst/>
                    </a:prstGeom>
                    <a:noFill/>
                    <a:ln w="57240">
                      <a:solidFill>
                        <a:srgbClr val="9900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6" name=""/>
                  <p:cNvSpPr/>
                  <p:nvPr/>
                </p:nvSpPr>
                <p:spPr>
                  <a:xfrm>
                    <a:off x="5758920" y="5247720"/>
                    <a:ext cx="199800" cy="199800"/>
                  </a:xfrm>
                  <a:prstGeom prst="rect">
                    <a:avLst/>
                  </a:prstGeom>
                  <a:noFill/>
                  <a:ln w="57240">
                    <a:solidFill>
                      <a:srgbClr val="99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7" name=""/>
              <p:cNvSpPr/>
              <p:nvPr/>
            </p:nvSpPr>
            <p:spPr>
              <a:xfrm>
                <a:off x="4592520" y="2514600"/>
                <a:ext cx="0" cy="399960"/>
              </a:xfrm>
              <a:prstGeom prst="line">
                <a:avLst/>
              </a:prstGeom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592520" y="5248080"/>
                <a:ext cx="0" cy="399960"/>
              </a:xfrm>
              <a:prstGeom prst="line">
                <a:avLst/>
              </a:prstGeom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" name=""/>
            <p:cNvSpPr/>
            <p:nvPr/>
          </p:nvSpPr>
          <p:spPr>
            <a:xfrm flipH="1">
              <a:off x="5738040" y="4081320"/>
              <a:ext cx="399960" cy="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3004920" y="4081320"/>
              <a:ext cx="399960" cy="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dissolve/>
    <p:sndAc>
      <p:stSnd>
        <p:snd r:embed="rId1" name="PROJCTOR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1432080"/>
            <a:ext cx="914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Wide Latin"/>
              </a:rPr>
              <a:t>Squar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004920" y="2514600"/>
            <a:ext cx="3133080" cy="3133440"/>
            <a:chOff x="3004920" y="2514600"/>
            <a:chExt cx="3133080" cy="3133440"/>
          </a:xfrm>
        </p:grpSpPr>
        <p:grpSp>
          <p:nvGrpSpPr>
            <p:cNvPr id="84" name=""/>
            <p:cNvGrpSpPr/>
            <p:nvPr/>
          </p:nvGrpSpPr>
          <p:grpSpPr>
            <a:xfrm>
              <a:off x="3225960" y="2514600"/>
              <a:ext cx="2733120" cy="3133440"/>
              <a:chOff x="3225960" y="2514600"/>
              <a:chExt cx="2733120" cy="313344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3225960" y="2714400"/>
                <a:ext cx="2733120" cy="2733480"/>
                <a:chOff x="3225960" y="2714400"/>
                <a:chExt cx="2733120" cy="273348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3225960" y="5247720"/>
                  <a:ext cx="199800" cy="199800"/>
                </a:xfrm>
                <a:prstGeom prst="rect">
                  <a:avLst/>
                </a:prstGeom>
                <a:noFill/>
                <a:ln w="57240">
                  <a:solidFill>
                    <a:srgbClr val="9900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7" name=""/>
                <p:cNvGrpSpPr/>
                <p:nvPr/>
              </p:nvGrpSpPr>
              <p:grpSpPr>
                <a:xfrm>
                  <a:off x="3225960" y="2714400"/>
                  <a:ext cx="2733120" cy="2733480"/>
                  <a:chOff x="3225960" y="2714400"/>
                  <a:chExt cx="2733120" cy="2733480"/>
                </a:xfrm>
              </p:grpSpPr>
              <p:grpSp>
                <p:nvGrpSpPr>
                  <p:cNvPr id="88" name=""/>
                  <p:cNvGrpSpPr/>
                  <p:nvPr/>
                </p:nvGrpSpPr>
                <p:grpSpPr>
                  <a:xfrm>
                    <a:off x="3225960" y="2714400"/>
                    <a:ext cx="2733120" cy="2733480"/>
                    <a:chOff x="3225960" y="2714400"/>
                    <a:chExt cx="2733120" cy="2733480"/>
                  </a:xfrm>
                </p:grpSpPr>
                <p:grpSp>
                  <p:nvGrpSpPr>
                    <p:cNvPr id="89" name=""/>
                    <p:cNvGrpSpPr/>
                    <p:nvPr/>
                  </p:nvGrpSpPr>
                  <p:grpSpPr>
                    <a:xfrm>
                      <a:off x="3225960" y="2714400"/>
                      <a:ext cx="2733120" cy="2733480"/>
                      <a:chOff x="3225960" y="2714400"/>
                      <a:chExt cx="2733120" cy="2733480"/>
                    </a:xfrm>
                  </p:grpSpPr>
                  <p:sp>
                    <p:nvSpPr>
                      <p:cNvPr id="90" name=""/>
                      <p:cNvSpPr/>
                      <p:nvPr/>
                    </p:nvSpPr>
                    <p:spPr>
                      <a:xfrm>
                        <a:off x="3225960" y="2714400"/>
                        <a:ext cx="2733120" cy="2733480"/>
                      </a:xfrm>
                      <a:prstGeom prst="rect">
                        <a:avLst/>
                      </a:prstGeom>
                      <a:solidFill>
                        <a:srgbClr val="990033">
                          <a:alpha val="50000"/>
                        </a:srgbClr>
                      </a:solidFill>
                      <a:ln w="57240">
                        <a:solidFill>
                          <a:srgbClr val="990033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1" name=""/>
                      <p:cNvSpPr/>
                      <p:nvPr/>
                    </p:nvSpPr>
                    <p:spPr>
                      <a:xfrm>
                        <a:off x="3225960" y="2714400"/>
                        <a:ext cx="199800" cy="199800"/>
                      </a:xfrm>
                      <a:prstGeom prst="rect">
                        <a:avLst/>
                      </a:prstGeom>
                      <a:noFill/>
                      <a:ln w="57240">
                        <a:solidFill>
                          <a:srgbClr val="990033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92" name=""/>
                    <p:cNvSpPr/>
                    <p:nvPr/>
                  </p:nvSpPr>
                  <p:spPr>
                    <a:xfrm>
                      <a:off x="5758920" y="2714400"/>
                      <a:ext cx="199800" cy="199800"/>
                    </a:xfrm>
                    <a:prstGeom prst="rect">
                      <a:avLst/>
                    </a:prstGeom>
                    <a:noFill/>
                    <a:ln w="57240">
                      <a:solidFill>
                        <a:srgbClr val="990033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93" name=""/>
                  <p:cNvSpPr/>
                  <p:nvPr/>
                </p:nvSpPr>
                <p:spPr>
                  <a:xfrm>
                    <a:off x="5758920" y="5247720"/>
                    <a:ext cx="199800" cy="199800"/>
                  </a:xfrm>
                  <a:prstGeom prst="rect">
                    <a:avLst/>
                  </a:prstGeom>
                  <a:noFill/>
                  <a:ln w="57240">
                    <a:solidFill>
                      <a:srgbClr val="99003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4" name=""/>
              <p:cNvSpPr/>
              <p:nvPr/>
            </p:nvSpPr>
            <p:spPr>
              <a:xfrm>
                <a:off x="4592520" y="2514600"/>
                <a:ext cx="0" cy="399960"/>
              </a:xfrm>
              <a:prstGeom prst="line">
                <a:avLst/>
              </a:prstGeom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92520" y="5248080"/>
                <a:ext cx="0" cy="399960"/>
              </a:xfrm>
              <a:prstGeom prst="line">
                <a:avLst/>
              </a:prstGeom>
              <a:ln w="57240">
                <a:solidFill>
                  <a:srgbClr val="99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 flipH="1">
              <a:off x="5738040" y="4081320"/>
              <a:ext cx="399960" cy="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3004920" y="4081320"/>
              <a:ext cx="399960" cy="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84960" y="4219560"/>
            <a:ext cx="275904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This quadrilateral is al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a rectang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a rhomb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a paralle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dissolve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 rot="5400000">
            <a:off x="3864600" y="-64080"/>
            <a:ext cx="1414440" cy="7925040"/>
          </a:xfrm>
          <a:prstGeom prst="diamond">
            <a:avLst/>
          </a:prstGeom>
          <a:solidFill>
            <a:srgbClr val="990033">
              <a:alpha val="50000"/>
            </a:srgbClr>
          </a:solidFill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2857680" y="3200400"/>
            <a:ext cx="3351960" cy="533520"/>
            <a:chOff x="2857680" y="3200400"/>
            <a:chExt cx="3351960" cy="533520"/>
          </a:xfrm>
        </p:grpSpPr>
        <p:sp>
          <p:nvSpPr>
            <p:cNvPr id="102" name=""/>
            <p:cNvSpPr/>
            <p:nvPr/>
          </p:nvSpPr>
          <p:spPr>
            <a:xfrm>
              <a:off x="2857680" y="3200400"/>
              <a:ext cx="75960" cy="53352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6133680" y="3200400"/>
              <a:ext cx="75960" cy="53352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2857680" y="4038480"/>
            <a:ext cx="3351960" cy="533520"/>
            <a:chOff x="2857680" y="4038480"/>
            <a:chExt cx="3351960" cy="533520"/>
          </a:xfrm>
        </p:grpSpPr>
        <p:sp>
          <p:nvSpPr>
            <p:cNvPr id="105" name=""/>
            <p:cNvSpPr/>
            <p:nvPr/>
          </p:nvSpPr>
          <p:spPr>
            <a:xfrm flipV="1">
              <a:off x="2857680" y="4038480"/>
              <a:ext cx="75960" cy="53352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 flipV="1">
              <a:off x="6133680" y="4038480"/>
              <a:ext cx="75960" cy="53352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dissolve/>
    <p:sndAc>
      <p:stSnd>
        <p:snd r:embed="rId1" name="PROJCTOR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76240" y="1432080"/>
            <a:ext cx="7391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Wide Latin"/>
              </a:rPr>
              <a:t>Rhombu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3864600" y="-64080"/>
            <a:ext cx="1414440" cy="7925040"/>
          </a:xfrm>
          <a:prstGeom prst="diamond">
            <a:avLst/>
          </a:prstGeom>
          <a:solidFill>
            <a:srgbClr val="990033">
              <a:alpha val="50000"/>
            </a:srgbClr>
          </a:solidFill>
          <a:ln w="572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857680" y="3200400"/>
            <a:ext cx="3351960" cy="533520"/>
            <a:chOff x="2857680" y="3200400"/>
            <a:chExt cx="3351960" cy="533520"/>
          </a:xfrm>
        </p:grpSpPr>
        <p:sp>
          <p:nvSpPr>
            <p:cNvPr id="111" name=""/>
            <p:cNvSpPr/>
            <p:nvPr/>
          </p:nvSpPr>
          <p:spPr>
            <a:xfrm>
              <a:off x="2857680" y="3200400"/>
              <a:ext cx="75960" cy="53352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6133680" y="3200400"/>
              <a:ext cx="75960" cy="53352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857680" y="4038480"/>
            <a:ext cx="3351960" cy="533520"/>
            <a:chOff x="2857680" y="4038480"/>
            <a:chExt cx="3351960" cy="533520"/>
          </a:xfrm>
        </p:grpSpPr>
        <p:sp>
          <p:nvSpPr>
            <p:cNvPr id="114" name=""/>
            <p:cNvSpPr/>
            <p:nvPr/>
          </p:nvSpPr>
          <p:spPr>
            <a:xfrm flipV="1">
              <a:off x="2857680" y="4038480"/>
              <a:ext cx="75960" cy="53352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 flipV="1">
              <a:off x="6133680" y="4038480"/>
              <a:ext cx="75960" cy="533520"/>
            </a:xfrm>
            <a:prstGeom prst="line">
              <a:avLst/>
            </a:prstGeom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384960" y="4705200"/>
            <a:ext cx="275904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This quadrilateral is als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Comic Sans MS"/>
              </a:rPr>
              <a:t>a parallel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buClr>
                <a:srgbClr val="990033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3000">
    <p:dissolve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52480" y="2619360"/>
            <a:ext cx="5639040" cy="3254400"/>
          </a:xfrm>
          <a:custGeom>
            <a:avLst/>
            <a:gdLst/>
            <a:ahLst/>
            <a:rect l="l" t="t" r="r" b="b"/>
            <a:pathLst>
              <a:path w="1248" h="720">
                <a:moveTo>
                  <a:pt x="288" y="0"/>
                </a:moveTo>
                <a:lnTo>
                  <a:pt x="0" y="384"/>
                </a:lnTo>
                <a:lnTo>
                  <a:pt x="0" y="720"/>
                </a:lnTo>
                <a:lnTo>
                  <a:pt x="1248" y="672"/>
                </a:lnTo>
                <a:lnTo>
                  <a:pt x="288" y="0"/>
                </a:lnTo>
                <a:close/>
              </a:path>
            </a:pathLst>
          </a:custGeom>
          <a:solidFill>
            <a:srgbClr val="990033">
              <a:alpha val="50000"/>
            </a:srgbClr>
          </a:solidFill>
          <a:ln w="57240">
            <a:solidFill>
              <a:srgbClr val="99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49280" y="830160"/>
            <a:ext cx="376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Comic Sans MS"/>
              </a:rPr>
              <a:t>Best Nam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4000">
    <p:dissolve/>
    <p:sndAc>
      <p:stSnd>
        <p:snd r:embed="rId1" name="PROJCTOR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9T18:04:50Z</dcterms:created>
  <dc:creator>LBUSD Registered User</dc:creator>
  <dc:description/>
  <dc:language>en-US</dc:language>
  <cp:lastModifiedBy>mburgess</cp:lastModifiedBy>
  <dcterms:modified xsi:type="dcterms:W3CDTF">2008-06-24T15:57:46Z</dcterms:modified>
  <cp:revision>8</cp:revision>
  <dc:subject/>
  <dc:title>Classifying Quadrilaterals</dc:title>
</cp:coreProperties>
</file>